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30.png" ContentType="image/png"/>
  <Override PartName="/ppt/media/image48.wmf" ContentType="image/x-wmf"/>
  <Override PartName="/ppt/media/image50.png" ContentType="image/png"/>
  <Override PartName="/ppt/media/image49.gif" ContentType="image/gif"/>
  <Override PartName="/ppt/media/image51.wmf" ContentType="image/x-wmf"/>
  <Override PartName="/ppt/media/image31.png" ContentType="image/png"/>
  <Override PartName="/ppt/media/image41.png" ContentType="image/png"/>
  <Override PartName="/ppt/media/image52.wmf" ContentType="image/x-wmf"/>
  <Override PartName="/ppt/media/image32.png" ContentType="image/png"/>
  <Override PartName="/ppt/media/image10.png" ContentType="image/png"/>
  <Override PartName="/ppt/media/image1.jpeg" ContentType="image/jpeg"/>
  <Override PartName="/ppt/media/image42.png" ContentType="image/png"/>
  <Override PartName="/ppt/media/image53.wmf" ContentType="image/x-wmf"/>
  <Override PartName="/ppt/media/image54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9F7-D447-417D-BF5E-304F460D8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BF8-ED4C-469A-A51D-35DBDEFA6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A77-D89D-40D9-AAE9-0753C85AB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08C-4EBA-4C53-9C69-6371E268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426-5A7F-4938-A00B-DEA755D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B32-9ECA-4730-9F64-13DCD6F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716-8375-47DC-BD72-D7F5C5B4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3F3-C3D0-47E6-92A1-EBEA4B0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F66-6C05-46F1-8B57-92B3CFF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2DB-25E1-424B-95D9-90C8E50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BE5-6DE0-4950-AFE2-9758F45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FB0-5409-48C3-9D94-4F7E92F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C7A-80DD-49F4-A6AE-B54D605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107-2C40-4DF7-A5B7-A8382B1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0AF-1356-48EC-9EED-A099CFD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BC9-A878-4B9D-B004-95EF82FB6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20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image" Target="../media/image49.gif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731"/>
          <p:cNvPicPr/>
          <p:nvPr/>
        </p:nvPicPr>
        <p:blipFill>
          <a:blip r:embed="rId1"/>
          <a:stretch/>
        </p:blipFill>
        <p:spPr>
          <a:xfrm>
            <a:off x="5076720" y="836640"/>
            <a:ext cx="3743280" cy="579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цилиндр3"/>
          <p:cNvPicPr/>
          <p:nvPr/>
        </p:nvPicPr>
        <p:blipFill>
          <a:blip r:embed="rId2"/>
          <a:stretch/>
        </p:blipFill>
        <p:spPr>
          <a:xfrm>
            <a:off x="179280" y="2276640"/>
            <a:ext cx="4321440" cy="3217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Цилиндры и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10vdnxl"/>
          <p:cNvPicPr/>
          <p:nvPr/>
        </p:nvPicPr>
        <p:blipFill>
          <a:blip r:embed="rId1"/>
          <a:stretch/>
        </p:blipFill>
        <p:spPr>
          <a:xfrm>
            <a:off x="2700360" y="836640"/>
            <a:ext cx="41050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V580c\Desktop\i[11].jpg"/>
          <p:cNvPicPr/>
          <p:nvPr/>
        </p:nvPicPr>
        <p:blipFill>
          <a:blip r:embed="rId1"/>
          <a:stretch/>
        </p:blipFill>
        <p:spPr>
          <a:xfrm>
            <a:off x="576360" y="907920"/>
            <a:ext cx="831672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76cd"/>
                </a:solidFill>
                <a:latin typeface="Arial"/>
              </a:rPr>
              <a:t>Прямой круговой цилиндр и его эле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вал 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Определение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 flipH="1">
            <a:off x="1071360" y="2034360"/>
            <a:ext cx="85716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0"/>
          <p:cNvSpPr/>
          <p:nvPr/>
        </p:nvSpPr>
        <p:spPr>
          <a:xfrm flipH="1">
            <a:off x="1223640" y="2187720"/>
            <a:ext cx="85716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 flipH="1">
            <a:off x="164268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"/>
          <p:cNvSpPr/>
          <p:nvPr/>
        </p:nvSpPr>
        <p:spPr>
          <a:xfrm flipH="1">
            <a:off x="207144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3"/>
          <p:cNvSpPr/>
          <p:nvPr/>
        </p:nvSpPr>
        <p:spPr>
          <a:xfrm flipH="1">
            <a:off x="1428480" y="1856520"/>
            <a:ext cx="857160" cy="2000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 flipH="1">
            <a:off x="157140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 flipH="1">
            <a:off x="242856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 flipH="1">
            <a:off x="2000160" y="178596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285732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242856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9"/>
          <p:cNvSpPr/>
          <p:nvPr/>
        </p:nvSpPr>
        <p:spPr>
          <a:xfrm flipH="1">
            <a:off x="328572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0"/>
          <p:cNvSpPr/>
          <p:nvPr/>
        </p:nvSpPr>
        <p:spPr>
          <a:xfrm flipH="1">
            <a:off x="278568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1"/>
          <p:cNvSpPr/>
          <p:nvPr/>
        </p:nvSpPr>
        <p:spPr>
          <a:xfrm flipH="1">
            <a:off x="3143160" y="192888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2"/>
          <p:cNvSpPr/>
          <p:nvPr/>
        </p:nvSpPr>
        <p:spPr>
          <a:xfrm flipH="1">
            <a:off x="278568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3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37"/>
          <p:cNvGrpSpPr/>
          <p:nvPr/>
        </p:nvGrpSpPr>
        <p:grpSpPr>
          <a:xfrm>
            <a:off x="5572080" y="1714680"/>
            <a:ext cx="2286000" cy="2571480"/>
            <a:chOff x="5572080" y="1714680"/>
            <a:chExt cx="2286000" cy="2571480"/>
          </a:xfrm>
        </p:grpSpPr>
        <p:sp>
          <p:nvSpPr>
            <p:cNvPr id="95" name="Овал 6"/>
            <p:cNvSpPr/>
            <p:nvPr/>
          </p:nvSpPr>
          <p:spPr>
            <a:xfrm>
              <a:off x="5572080" y="378612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Овал 7"/>
            <p:cNvSpPr/>
            <p:nvPr/>
          </p:nvSpPr>
          <p:spPr>
            <a:xfrm>
              <a:off x="5643360" y="171468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27"/>
            <p:cNvSpPr/>
            <p:nvPr/>
          </p:nvSpPr>
          <p:spPr>
            <a:xfrm flipH="1">
              <a:off x="5572080" y="196524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29"/>
            <p:cNvSpPr/>
            <p:nvPr/>
          </p:nvSpPr>
          <p:spPr>
            <a:xfrm flipH="1">
              <a:off x="585756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30"/>
            <p:cNvSpPr/>
            <p:nvPr/>
          </p:nvSpPr>
          <p:spPr>
            <a:xfrm flipH="1">
              <a:off x="642924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31"/>
            <p:cNvSpPr/>
            <p:nvPr/>
          </p:nvSpPr>
          <p:spPr>
            <a:xfrm flipH="1">
              <a:off x="600048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32"/>
            <p:cNvSpPr/>
            <p:nvPr/>
          </p:nvSpPr>
          <p:spPr>
            <a:xfrm flipH="1">
              <a:off x="700092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33"/>
            <p:cNvSpPr/>
            <p:nvPr/>
          </p:nvSpPr>
          <p:spPr>
            <a:xfrm flipH="1">
              <a:off x="6643800" y="17146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34"/>
            <p:cNvSpPr/>
            <p:nvPr/>
          </p:nvSpPr>
          <p:spPr>
            <a:xfrm flipH="1">
              <a:off x="757260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35"/>
            <p:cNvSpPr/>
            <p:nvPr/>
          </p:nvSpPr>
          <p:spPr>
            <a:xfrm flipH="1">
              <a:off x="728676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36"/>
            <p:cNvSpPr/>
            <p:nvPr/>
          </p:nvSpPr>
          <p:spPr>
            <a:xfrm flipH="1">
              <a:off x="7786800" y="19288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55"/>
          <p:cNvSpPr/>
          <p:nvPr/>
        </p:nvSpPr>
        <p:spPr>
          <a:xfrm>
            <a:off x="1928880" y="4572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илиндром называется тело, которое состоит из двух кругов , не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7"/>
          <p:cNvGrpSpPr/>
          <p:nvPr/>
        </p:nvGrpSpPr>
        <p:grpSpPr>
          <a:xfrm>
            <a:off x="5500800" y="1714680"/>
            <a:ext cx="2286000" cy="2571480"/>
            <a:chOff x="5500800" y="1714680"/>
            <a:chExt cx="2286000" cy="2571480"/>
          </a:xfrm>
        </p:grpSpPr>
        <p:sp>
          <p:nvSpPr>
            <p:cNvPr id="108" name="Овал 39"/>
            <p:cNvSpPr/>
            <p:nvPr/>
          </p:nvSpPr>
          <p:spPr>
            <a:xfrm>
              <a:off x="5500800" y="378612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40"/>
            <p:cNvSpPr/>
            <p:nvPr/>
          </p:nvSpPr>
          <p:spPr>
            <a:xfrm>
              <a:off x="5572080" y="171468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41"/>
            <p:cNvSpPr/>
            <p:nvPr/>
          </p:nvSpPr>
          <p:spPr>
            <a:xfrm flipH="1">
              <a:off x="5500800" y="196524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42"/>
            <p:cNvSpPr/>
            <p:nvPr/>
          </p:nvSpPr>
          <p:spPr>
            <a:xfrm flipH="1">
              <a:off x="578628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43"/>
            <p:cNvSpPr/>
            <p:nvPr/>
          </p:nvSpPr>
          <p:spPr>
            <a:xfrm flipH="1">
              <a:off x="635796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44"/>
            <p:cNvSpPr/>
            <p:nvPr/>
          </p:nvSpPr>
          <p:spPr>
            <a:xfrm flipH="1">
              <a:off x="592920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45"/>
            <p:cNvSpPr/>
            <p:nvPr/>
          </p:nvSpPr>
          <p:spPr>
            <a:xfrm flipH="1">
              <a:off x="692964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46"/>
            <p:cNvSpPr/>
            <p:nvPr/>
          </p:nvSpPr>
          <p:spPr>
            <a:xfrm flipH="1">
              <a:off x="6572520" y="17146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47"/>
            <p:cNvSpPr/>
            <p:nvPr/>
          </p:nvSpPr>
          <p:spPr>
            <a:xfrm flipH="1">
              <a:off x="750132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48"/>
            <p:cNvSpPr/>
            <p:nvPr/>
          </p:nvSpPr>
          <p:spPr>
            <a:xfrm flipH="1">
              <a:off x="721548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49"/>
            <p:cNvSpPr/>
            <p:nvPr/>
          </p:nvSpPr>
          <p:spPr>
            <a:xfrm flipH="1">
              <a:off x="7715520" y="19288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0.29398 E">
                                      <p:cBhvr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Элементы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4071960" y="1857240"/>
            <a:ext cx="39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Garamond"/>
              </a:rPr>
              <a:t>Высотой цилиндра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сстояние между плоскостями его ос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4"/>
          <p:cNvGrpSpPr/>
          <p:nvPr/>
        </p:nvGrpSpPr>
        <p:grpSpPr>
          <a:xfrm>
            <a:off x="642960" y="1428840"/>
            <a:ext cx="2785680" cy="3429000"/>
            <a:chOff x="642960" y="1428840"/>
            <a:chExt cx="2785680" cy="3429000"/>
          </a:xfrm>
        </p:grpSpPr>
        <p:sp>
          <p:nvSpPr>
            <p:cNvPr id="122" name="Цилиндр 5"/>
            <p:cNvSpPr/>
            <p:nvPr/>
          </p:nvSpPr>
          <p:spPr>
            <a:xfrm>
              <a:off x="71424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25"/>
            <p:cNvGrpSpPr/>
            <p:nvPr/>
          </p:nvGrpSpPr>
          <p:grpSpPr>
            <a:xfrm>
              <a:off x="642960" y="4143600"/>
              <a:ext cx="2785680" cy="714240"/>
              <a:chOff x="642960" y="4143600"/>
              <a:chExt cx="2785680" cy="714240"/>
            </a:xfrm>
          </p:grpSpPr>
          <p:sp>
            <p:nvSpPr>
              <p:cNvPr id="124" name="Дуга 7"/>
              <p:cNvSpPr/>
              <p:nvPr/>
            </p:nvSpPr>
            <p:spPr>
              <a:xfrm>
                <a:off x="642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Дуга 8"/>
              <p:cNvSpPr/>
              <p:nvPr/>
            </p:nvSpPr>
            <p:spPr>
              <a:xfrm flipH="1">
                <a:off x="714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55"/>
          <p:cNvSpPr/>
          <p:nvPr/>
        </p:nvSpPr>
        <p:spPr>
          <a:xfrm>
            <a:off x="4000680" y="5716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Радиусом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диус его осн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>
            <a:off x="4214880" y="364320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Осью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прямая, проходящая через центры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>
            <a:off x="2000160" y="17146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2"/>
          <p:cNvSpPr/>
          <p:nvPr/>
        </p:nvSpPr>
        <p:spPr>
          <a:xfrm>
            <a:off x="2000160" y="44290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4"/>
          <p:cNvSpPr/>
          <p:nvPr/>
        </p:nvSpPr>
        <p:spPr>
          <a:xfrm flipH="1">
            <a:off x="713880" y="17254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 flipH="1">
            <a:off x="713880" y="44290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8"/>
          <p:cNvSpPr/>
          <p:nvPr/>
        </p:nvSpPr>
        <p:spPr>
          <a:xfrm flipH="1">
            <a:off x="3355560" y="1785960"/>
            <a:ext cx="180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 flipH="1">
            <a:off x="1071720" y="2000160"/>
            <a:ext cx="144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H="1">
            <a:off x="199980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1"/>
          <p:cNvSpPr/>
          <p:nvPr/>
        </p:nvSpPr>
        <p:spPr>
          <a:xfrm flipH="1">
            <a:off x="264276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3"/>
          <p:cNvSpPr/>
          <p:nvPr/>
        </p:nvSpPr>
        <p:spPr>
          <a:xfrm flipH="1">
            <a:off x="1998720" y="785880"/>
            <a:ext cx="1440" cy="45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2286000" y="5143680"/>
            <a:ext cx="64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Garamond"/>
              </a:rPr>
              <a:t>Образующи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-отрезки, соединяющие соответствующие точки окружностей кру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2928960" y="2000160"/>
            <a:ext cx="0" cy="2714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7"/>
          <p:cNvSpPr/>
          <p:nvPr/>
        </p:nvSpPr>
        <p:spPr>
          <a:xfrm>
            <a:off x="2428920" y="2071800"/>
            <a:ext cx="0" cy="27144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8"/>
          <p:cNvSpPr/>
          <p:nvPr/>
        </p:nvSpPr>
        <p:spPr>
          <a:xfrm>
            <a:off x="3071880" y="1571760"/>
            <a:ext cx="0" cy="2714400"/>
          </a:xfrm>
          <a:prstGeom prst="line">
            <a:avLst/>
          </a:prstGeom>
          <a:ln w="284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324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197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190800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32400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82692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900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2484360" y="14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255600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5"/>
          <p:cNvSpPr/>
          <p:nvPr/>
        </p:nvSpPr>
        <p:spPr>
          <a:xfrm>
            <a:off x="2987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13200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2124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226836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войства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28"/>
          <p:cNvGrpSpPr/>
          <p:nvPr/>
        </p:nvGrpSpPr>
        <p:grpSpPr>
          <a:xfrm>
            <a:off x="785880" y="1643040"/>
            <a:ext cx="2785680" cy="3429000"/>
            <a:chOff x="785880" y="1643040"/>
            <a:chExt cx="2785680" cy="3429000"/>
          </a:xfrm>
        </p:grpSpPr>
        <p:sp>
          <p:nvSpPr>
            <p:cNvPr id="155" name="Цилиндр 5"/>
            <p:cNvSpPr/>
            <p:nvPr/>
          </p:nvSpPr>
          <p:spPr>
            <a:xfrm>
              <a:off x="857160" y="16430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Группа 25"/>
            <p:cNvGrpSpPr/>
            <p:nvPr/>
          </p:nvGrpSpPr>
          <p:grpSpPr>
            <a:xfrm>
              <a:off x="785880" y="4357800"/>
              <a:ext cx="2785680" cy="714240"/>
              <a:chOff x="785880" y="4357800"/>
              <a:chExt cx="2785680" cy="714240"/>
            </a:xfrm>
          </p:grpSpPr>
          <p:sp>
            <p:nvSpPr>
              <p:cNvPr id="157" name="Дуга 6"/>
              <p:cNvSpPr/>
              <p:nvPr/>
            </p:nvSpPr>
            <p:spPr>
              <a:xfrm>
                <a:off x="785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Дуга 7"/>
              <p:cNvSpPr/>
              <p:nvPr/>
            </p:nvSpPr>
            <p:spPr>
              <a:xfrm flipH="1">
                <a:off x="857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ext Box 29"/>
          <p:cNvSpPr/>
          <p:nvPr/>
        </p:nvSpPr>
        <p:spPr>
          <a:xfrm>
            <a:off x="3929040" y="100008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) Основания равны и паралле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857160" y="164304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857160" y="435780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4143240" y="2500200"/>
            <a:ext cx="4292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) Все образующие цилиндра параллельны и равны друг друг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разующие составляют боковую поверхность цилинд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1"/>
          <p:cNvSpPr/>
          <p:nvPr/>
        </p:nvSpPr>
        <p:spPr>
          <a:xfrm flipH="1">
            <a:off x="856800" y="1963080"/>
            <a:ext cx="1800" cy="27162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2"/>
          <p:cNvSpPr/>
          <p:nvPr/>
        </p:nvSpPr>
        <p:spPr>
          <a:xfrm flipH="1">
            <a:off x="1143000" y="214236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3"/>
          <p:cNvSpPr/>
          <p:nvPr/>
        </p:nvSpPr>
        <p:spPr>
          <a:xfrm flipH="1">
            <a:off x="1356840" y="1714680"/>
            <a:ext cx="1800" cy="271440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 flipH="1">
            <a:off x="1571760" y="2214720"/>
            <a:ext cx="1440" cy="27144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 flipH="1">
            <a:off x="1856880" y="1642320"/>
            <a:ext cx="180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6"/>
          <p:cNvSpPr/>
          <p:nvPr/>
        </p:nvSpPr>
        <p:spPr>
          <a:xfrm flipH="1">
            <a:off x="2571840" y="164232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7"/>
          <p:cNvSpPr/>
          <p:nvPr/>
        </p:nvSpPr>
        <p:spPr>
          <a:xfrm flipH="1">
            <a:off x="3214800" y="178524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8"/>
          <p:cNvSpPr/>
          <p:nvPr/>
        </p:nvSpPr>
        <p:spPr>
          <a:xfrm flipH="1">
            <a:off x="2214720" y="228528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9"/>
          <p:cNvSpPr/>
          <p:nvPr/>
        </p:nvSpPr>
        <p:spPr>
          <a:xfrm flipH="1">
            <a:off x="2928960" y="2214720"/>
            <a:ext cx="1440" cy="27144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0"/>
          <p:cNvSpPr/>
          <p:nvPr/>
        </p:nvSpPr>
        <p:spPr>
          <a:xfrm flipH="1">
            <a:off x="3499920" y="1999440"/>
            <a:ext cx="180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2124000" y="1484280"/>
          <a:ext cx="511200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5112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1619280" y="2492280"/>
            <a:ext cx="0" cy="22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692360" y="2565360"/>
            <a:ext cx="21564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95280" y="1212840"/>
            <a:ext cx="5068080" cy="5644440"/>
            <a:chOff x="395280" y="1212840"/>
            <a:chExt cx="5068080" cy="5644440"/>
          </a:xfrm>
        </p:grpSpPr>
        <p:sp>
          <p:nvSpPr>
            <p:cNvPr id="179" name="AutoShape 5"/>
            <p:cNvSpPr/>
            <p:nvPr/>
          </p:nvSpPr>
          <p:spPr>
            <a:xfrm>
              <a:off x="1393560" y="1430280"/>
              <a:ext cx="2918160" cy="481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6"/>
            <p:cNvGrpSpPr/>
            <p:nvPr/>
          </p:nvGrpSpPr>
          <p:grpSpPr>
            <a:xfrm>
              <a:off x="1410840" y="4996440"/>
              <a:ext cx="2874960" cy="764280"/>
              <a:chOff x="1410840" y="4996440"/>
              <a:chExt cx="2874960" cy="764280"/>
            </a:xfrm>
          </p:grpSpPr>
          <p:sp>
            <p:nvSpPr>
              <p:cNvPr id="181" name="Arc 7"/>
              <p:cNvSpPr/>
              <p:nvPr/>
            </p:nvSpPr>
            <p:spPr>
              <a:xfrm>
                <a:off x="2689920" y="4996440"/>
                <a:ext cx="1595880" cy="76428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rc 8"/>
              <p:cNvSpPr/>
              <p:nvPr/>
            </p:nvSpPr>
            <p:spPr>
              <a:xfrm flipH="1">
                <a:off x="1410480" y="4996440"/>
                <a:ext cx="1595880" cy="764280"/>
              </a:xfrm>
              <a:custGeom>
                <a:avLst/>
                <a:gdLst>
                  <a:gd name="textAreaLeft" fmla="*/ -360 w 1595880"/>
                  <a:gd name="textAreaRight" fmla="*/ 159588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9"/>
            <p:cNvSpPr/>
            <p:nvPr/>
          </p:nvSpPr>
          <p:spPr>
            <a:xfrm>
              <a:off x="1393560" y="201888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2898360" y="2011320"/>
              <a:ext cx="0" cy="3632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395280" y="144324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004280" y="148140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2161080" y="121284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1393560" y="566712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1892160" y="48607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433440" y="4975560"/>
              <a:ext cx="142020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4043160" y="501444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3428280" y="22111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3466800" y="5743440"/>
              <a:ext cx="142092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2890800" y="2011320"/>
              <a:ext cx="81900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>
              <a:off x="2982960" y="5659560"/>
              <a:ext cx="742320" cy="426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3625560" y="222912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ПИШИТЕ ЭЛЕМЕНТЫ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1"/>
          <p:cNvSpPr/>
          <p:nvPr/>
        </p:nvSpPr>
        <p:spPr>
          <a:xfrm>
            <a:off x="370836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53"/>
          <p:cNvSpPr/>
          <p:nvPr/>
        </p:nvSpPr>
        <p:spPr>
          <a:xfrm>
            <a:off x="3708360" y="2565360"/>
            <a:ext cx="71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5292720" y="234936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иу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ующ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ус: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А,ОВ,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: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ющие:А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В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:А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В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238400" y="-317520"/>
            <a:ext cx="8240400" cy="7284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979640" y="98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1.0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- тело 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7"/>
          <p:cNvGrpSpPr/>
          <p:nvPr/>
        </p:nvGrpSpPr>
        <p:grpSpPr>
          <a:xfrm>
            <a:off x="1181160" y="2895480"/>
            <a:ext cx="1574640" cy="3086280"/>
            <a:chOff x="1181160" y="2895480"/>
            <a:chExt cx="1574640" cy="3086280"/>
          </a:xfrm>
        </p:grpSpPr>
        <p:sp>
          <p:nvSpPr>
            <p:cNvPr id="205" name="Freeform 2"/>
            <p:cNvSpPr/>
            <p:nvPr/>
          </p:nvSpPr>
          <p:spPr>
            <a:xfrm>
              <a:off x="1193760" y="2895480"/>
              <a:ext cx="1562040" cy="30736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3073680"/>
                <a:gd name="textAreaBottom" fmla="*/ 3074040 h 3073680"/>
              </a:gdLst>
              <a:ahLst/>
              <a:rect l="textAreaLeft" t="textAreaTop" r="textAreaRight" b="textAreaBottom"/>
              <a:pathLst>
                <a:path w="984" h="1936">
                  <a:moveTo>
                    <a:pt x="968" y="1704"/>
                  </a:moveTo>
                  <a:lnTo>
                    <a:pt x="984" y="0"/>
                  </a:lnTo>
                  <a:lnTo>
                    <a:pt x="16" y="280"/>
                  </a:lnTo>
                  <a:lnTo>
                    <a:pt x="0" y="1936"/>
                  </a:lnTo>
                  <a:lnTo>
                    <a:pt x="968" y="170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"/>
            <p:cNvSpPr/>
            <p:nvPr/>
          </p:nvSpPr>
          <p:spPr>
            <a:xfrm>
              <a:off x="1193760" y="5600880"/>
              <a:ext cx="1536840" cy="368280"/>
            </a:xfrm>
            <a:custGeom>
              <a:avLst/>
              <a:gdLst>
                <a:gd name="textAreaLeft" fmla="*/ 0 w 1536840"/>
                <a:gd name="textAreaRight" fmla="*/ 1537200 w 15368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68" h="232">
                  <a:moveTo>
                    <a:pt x="0" y="232"/>
                  </a:moveTo>
                  <a:lnTo>
                    <a:pt x="9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7"/>
            <p:cNvSpPr/>
            <p:nvPr/>
          </p:nvSpPr>
          <p:spPr>
            <a:xfrm>
              <a:off x="1181160" y="2908440"/>
              <a:ext cx="1574640" cy="3073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992" h="1936">
                  <a:moveTo>
                    <a:pt x="0" y="1936"/>
                  </a:moveTo>
                  <a:lnTo>
                    <a:pt x="16" y="272"/>
                  </a:lnTo>
                  <a:lnTo>
                    <a:pt x="9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86796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884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2741760" y="28954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858600" y="4847760"/>
            <a:ext cx="3858840" cy="1436760"/>
            <a:chOff x="858600" y="4847760"/>
            <a:chExt cx="3858840" cy="1436760"/>
          </a:xfrm>
        </p:grpSpPr>
        <p:sp>
          <p:nvSpPr>
            <p:cNvPr id="212" name="Arc 21"/>
            <p:cNvSpPr/>
            <p:nvPr/>
          </p:nvSpPr>
          <p:spPr>
            <a:xfrm rot="5400000">
              <a:off x="2428200" y="3995280"/>
              <a:ext cx="719640" cy="38588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858840"/>
                <a:gd name="textAreaBottom" fmla="*/ 3859200 h 385884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22"/>
            <p:cNvSpPr/>
            <p:nvPr/>
          </p:nvSpPr>
          <p:spPr>
            <a:xfrm flipV="1" rot="16200000">
              <a:off x="2428200" y="3277800"/>
              <a:ext cx="719640" cy="38588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-360 h 3858840"/>
                <a:gd name="textAreaBottom" fmla="*/ 3858840 h 385884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23"/>
          <p:cNvSpPr/>
          <p:nvPr/>
        </p:nvSpPr>
        <p:spPr>
          <a:xfrm>
            <a:off x="858960" y="2925720"/>
            <a:ext cx="1440" cy="268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718160" y="2986200"/>
            <a:ext cx="144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48"/>
          <p:cNvSpPr/>
          <p:nvPr/>
        </p:nvSpPr>
        <p:spPr>
          <a:xfrm>
            <a:off x="1523880" y="2895480"/>
            <a:ext cx="1219320" cy="3225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768" h="2032">
                <a:moveTo>
                  <a:pt x="0" y="2016"/>
                </a:moveTo>
                <a:lnTo>
                  <a:pt x="0" y="336"/>
                </a:lnTo>
                <a:lnTo>
                  <a:pt x="768" y="0"/>
                </a:lnTo>
                <a:lnTo>
                  <a:pt x="752" y="1704"/>
                </a:lnTo>
                <a:lnTo>
                  <a:pt x="16" y="2032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49"/>
          <p:cNvSpPr/>
          <p:nvPr/>
        </p:nvSpPr>
        <p:spPr>
          <a:xfrm>
            <a:off x="1917720" y="2895480"/>
            <a:ext cx="851040" cy="3340080"/>
          </a:xfrm>
          <a:custGeom>
            <a:avLst/>
            <a:gdLst>
              <a:gd name="textAreaLeft" fmla="*/ 0 w 851040"/>
              <a:gd name="textAreaRight" fmla="*/ 851400 w 85104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0" y="2104"/>
                </a:moveTo>
                <a:lnTo>
                  <a:pt x="0" y="424"/>
                </a:lnTo>
                <a:lnTo>
                  <a:pt x="536" y="0"/>
                </a:lnTo>
                <a:lnTo>
                  <a:pt x="528" y="1704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0"/>
          <p:cNvSpPr/>
          <p:nvPr/>
        </p:nvSpPr>
        <p:spPr>
          <a:xfrm>
            <a:off x="2387520" y="2921040"/>
            <a:ext cx="393840" cy="3365640"/>
          </a:xfrm>
          <a:custGeom>
            <a:avLst/>
            <a:gdLst>
              <a:gd name="textAreaLeft" fmla="*/ 0 w 393840"/>
              <a:gd name="textAreaRight" fmla="*/ 394200 w 39384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248" h="2120">
                <a:moveTo>
                  <a:pt x="8" y="2096"/>
                </a:moveTo>
                <a:lnTo>
                  <a:pt x="8" y="440"/>
                </a:lnTo>
                <a:lnTo>
                  <a:pt x="208" y="0"/>
                </a:lnTo>
                <a:lnTo>
                  <a:pt x="248" y="1712"/>
                </a:lnTo>
                <a:lnTo>
                  <a:pt x="0" y="2120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1"/>
          <p:cNvSpPr/>
          <p:nvPr/>
        </p:nvSpPr>
        <p:spPr>
          <a:xfrm>
            <a:off x="2717640" y="2882880"/>
            <a:ext cx="190800" cy="3416400"/>
          </a:xfrm>
          <a:custGeom>
            <a:avLst/>
            <a:gdLst>
              <a:gd name="textAreaLeft" fmla="*/ 0 w 190800"/>
              <a:gd name="textAreaRight" fmla="*/ 191160 w 19080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120" h="2152">
                <a:moveTo>
                  <a:pt x="120" y="2152"/>
                </a:moveTo>
                <a:lnTo>
                  <a:pt x="120" y="480"/>
                </a:lnTo>
                <a:lnTo>
                  <a:pt x="32" y="0"/>
                </a:lnTo>
                <a:lnTo>
                  <a:pt x="0" y="1728"/>
                </a:lnTo>
                <a:lnTo>
                  <a:pt x="120" y="2136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2"/>
          <p:cNvSpPr/>
          <p:nvPr/>
        </p:nvSpPr>
        <p:spPr>
          <a:xfrm>
            <a:off x="2743200" y="2882880"/>
            <a:ext cx="571680" cy="3441600"/>
          </a:xfrm>
          <a:custGeom>
            <a:avLst/>
            <a:gdLst>
              <a:gd name="textAreaLeft" fmla="*/ 0 w 571680"/>
              <a:gd name="textAreaRight" fmla="*/ 572040 w 57168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w="360" h="2168">
                <a:moveTo>
                  <a:pt x="360" y="2168"/>
                </a:moveTo>
                <a:lnTo>
                  <a:pt x="360" y="496"/>
                </a:lnTo>
                <a:lnTo>
                  <a:pt x="8" y="0"/>
                </a:lnTo>
                <a:lnTo>
                  <a:pt x="0" y="1712"/>
                </a:lnTo>
                <a:lnTo>
                  <a:pt x="360" y="2152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3"/>
          <p:cNvSpPr/>
          <p:nvPr/>
        </p:nvSpPr>
        <p:spPr>
          <a:xfrm>
            <a:off x="2743200" y="2895480"/>
            <a:ext cx="952560" cy="3353040"/>
          </a:xfrm>
          <a:custGeom>
            <a:avLst/>
            <a:gdLst>
              <a:gd name="textAreaLeft" fmla="*/ 0 w 952560"/>
              <a:gd name="textAreaRight" fmla="*/ 952920 w 95256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600" h="2112">
                <a:moveTo>
                  <a:pt x="600" y="2112"/>
                </a:moveTo>
                <a:lnTo>
                  <a:pt x="600" y="440"/>
                </a:lnTo>
                <a:lnTo>
                  <a:pt x="0" y="0"/>
                </a:lnTo>
                <a:lnTo>
                  <a:pt x="8" y="1728"/>
                </a:lnTo>
                <a:lnTo>
                  <a:pt x="60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4"/>
          <p:cNvSpPr/>
          <p:nvPr/>
        </p:nvSpPr>
        <p:spPr>
          <a:xfrm>
            <a:off x="2743200" y="2908440"/>
            <a:ext cx="1333440" cy="32004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40" h="2016">
                <a:moveTo>
                  <a:pt x="840" y="2008"/>
                </a:moveTo>
                <a:lnTo>
                  <a:pt x="816" y="360"/>
                </a:lnTo>
                <a:lnTo>
                  <a:pt x="8" y="0"/>
                </a:lnTo>
                <a:lnTo>
                  <a:pt x="0" y="1720"/>
                </a:lnTo>
                <a:lnTo>
                  <a:pt x="832" y="2016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5"/>
          <p:cNvSpPr/>
          <p:nvPr/>
        </p:nvSpPr>
        <p:spPr>
          <a:xfrm>
            <a:off x="2730600" y="2908440"/>
            <a:ext cx="1727280" cy="30477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1088" h="1920">
                <a:moveTo>
                  <a:pt x="1088" y="1912"/>
                </a:moveTo>
                <a:lnTo>
                  <a:pt x="1064" y="264"/>
                </a:lnTo>
                <a:lnTo>
                  <a:pt x="0" y="0"/>
                </a:lnTo>
                <a:lnTo>
                  <a:pt x="8" y="1704"/>
                </a:lnTo>
                <a:lnTo>
                  <a:pt x="1080" y="1920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2755800" y="2895480"/>
            <a:ext cx="1968480" cy="274320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2743200"/>
              <a:gd name="textAreaBottom" fmla="*/ 2743200 h 2743200"/>
            </a:gdLst>
            <a:ahLst/>
            <a:rect l="textAreaLeft" t="textAreaTop" r="textAreaRight" b="textAreaBottom"/>
            <a:pathLst>
              <a:path w="1240" h="1728">
                <a:moveTo>
                  <a:pt x="1240" y="1720"/>
                </a:moveTo>
                <a:lnTo>
                  <a:pt x="1224" y="56"/>
                </a:lnTo>
                <a:lnTo>
                  <a:pt x="8" y="0"/>
                </a:lnTo>
                <a:lnTo>
                  <a:pt x="0" y="1704"/>
                </a:lnTo>
                <a:lnTo>
                  <a:pt x="1232" y="1728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7"/>
          <p:cNvSpPr/>
          <p:nvPr/>
        </p:nvSpPr>
        <p:spPr>
          <a:xfrm>
            <a:off x="2755800" y="2527200"/>
            <a:ext cx="1650960" cy="30862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1040" h="1944">
                <a:moveTo>
                  <a:pt x="1040" y="1664"/>
                </a:moveTo>
                <a:lnTo>
                  <a:pt x="1024" y="0"/>
                </a:lnTo>
                <a:lnTo>
                  <a:pt x="0" y="232"/>
                </a:lnTo>
                <a:lnTo>
                  <a:pt x="0" y="1944"/>
                </a:lnTo>
                <a:lnTo>
                  <a:pt x="1032" y="1672"/>
                </a:lnTo>
              </a:path>
            </a:pathLst>
          </a:custGeom>
          <a:blipFill rotWithShape="0">
            <a:blip r:embed="rId11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8"/>
          <p:cNvSpPr/>
          <p:nvPr/>
        </p:nvSpPr>
        <p:spPr>
          <a:xfrm>
            <a:off x="2755800" y="2286000"/>
            <a:ext cx="952560" cy="3340080"/>
          </a:xfrm>
          <a:custGeom>
            <a:avLst/>
            <a:gdLst>
              <a:gd name="textAreaLeft" fmla="*/ 0 w 952560"/>
              <a:gd name="textAreaRight" fmla="*/ 952920 w 95256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600" h="2104">
                <a:moveTo>
                  <a:pt x="600" y="1664"/>
                </a:moveTo>
                <a:lnTo>
                  <a:pt x="584" y="0"/>
                </a:lnTo>
                <a:lnTo>
                  <a:pt x="0" y="384"/>
                </a:lnTo>
                <a:lnTo>
                  <a:pt x="0" y="2104"/>
                </a:lnTo>
                <a:lnTo>
                  <a:pt x="592" y="1672"/>
                </a:lnTo>
              </a:path>
            </a:pathLst>
          </a:custGeom>
          <a:blipFill rotWithShape="0">
            <a:blip r:embed="rId1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9"/>
          <p:cNvSpPr/>
          <p:nvPr/>
        </p:nvSpPr>
        <p:spPr>
          <a:xfrm>
            <a:off x="2730600" y="2209680"/>
            <a:ext cx="355680" cy="3391200"/>
          </a:xfrm>
          <a:custGeom>
            <a:avLst/>
            <a:gdLst>
              <a:gd name="textAreaLeft" fmla="*/ 0 w 355680"/>
              <a:gd name="textAreaRight" fmla="*/ 356040 w 355680"/>
              <a:gd name="textAreaTop" fmla="*/ 0 h 3391200"/>
              <a:gd name="textAreaBottom" fmla="*/ 3391560 h 3391200"/>
            </a:gdLst>
            <a:ahLst/>
            <a:rect l="textAreaLeft" t="textAreaTop" r="textAreaRight" b="textAreaBottom"/>
            <a:pathLst>
              <a:path w="224" h="2136">
                <a:moveTo>
                  <a:pt x="224" y="1664"/>
                </a:moveTo>
                <a:lnTo>
                  <a:pt x="208" y="0"/>
                </a:lnTo>
                <a:lnTo>
                  <a:pt x="0" y="432"/>
                </a:lnTo>
                <a:lnTo>
                  <a:pt x="24" y="2136"/>
                </a:lnTo>
                <a:lnTo>
                  <a:pt x="216" y="1672"/>
                </a:lnTo>
              </a:path>
            </a:pathLst>
          </a:custGeom>
          <a:blipFill rotWithShape="0">
            <a:blip r:embed="rId1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0"/>
          <p:cNvSpPr/>
          <p:nvPr/>
        </p:nvSpPr>
        <p:spPr>
          <a:xfrm>
            <a:off x="2387520" y="2209680"/>
            <a:ext cx="368280" cy="3429000"/>
          </a:xfrm>
          <a:custGeom>
            <a:avLst/>
            <a:gdLst>
              <a:gd name="textAreaLeft" fmla="*/ 0 w 368280"/>
              <a:gd name="textAreaRight" fmla="*/ 368640 w 3682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32" h="2160">
                <a:moveTo>
                  <a:pt x="16" y="1664"/>
                </a:moveTo>
                <a:lnTo>
                  <a:pt x="0" y="0"/>
                </a:lnTo>
                <a:lnTo>
                  <a:pt x="232" y="432"/>
                </a:lnTo>
                <a:lnTo>
                  <a:pt x="224" y="2160"/>
                </a:lnTo>
                <a:lnTo>
                  <a:pt x="8" y="1672"/>
                </a:lnTo>
              </a:path>
            </a:pathLst>
          </a:custGeom>
          <a:blipFill rotWithShape="0">
            <a:blip r:embed="rId14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1"/>
          <p:cNvSpPr/>
          <p:nvPr/>
        </p:nvSpPr>
        <p:spPr>
          <a:xfrm>
            <a:off x="1905120" y="2286000"/>
            <a:ext cx="850680" cy="3340080"/>
          </a:xfrm>
          <a:custGeom>
            <a:avLst/>
            <a:gdLst>
              <a:gd name="textAreaLeft" fmla="*/ 0 w 850680"/>
              <a:gd name="textAreaRight" fmla="*/ 851040 w 85068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16" y="1664"/>
                </a:moveTo>
                <a:lnTo>
                  <a:pt x="0" y="0"/>
                </a:lnTo>
                <a:lnTo>
                  <a:pt x="536" y="386"/>
                </a:lnTo>
                <a:lnTo>
                  <a:pt x="528" y="2104"/>
                </a:lnTo>
                <a:lnTo>
                  <a:pt x="8" y="1672"/>
                </a:lnTo>
              </a:path>
            </a:pathLst>
          </a:custGeom>
          <a:blipFill rotWithShape="0">
            <a:blip r:embed="rId1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2"/>
          <p:cNvSpPr/>
          <p:nvPr/>
        </p:nvSpPr>
        <p:spPr>
          <a:xfrm>
            <a:off x="1371600" y="2438280"/>
            <a:ext cx="1389240" cy="318780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875" h="2008">
                <a:moveTo>
                  <a:pt x="16" y="1664"/>
                </a:moveTo>
                <a:lnTo>
                  <a:pt x="0" y="0"/>
                </a:lnTo>
                <a:lnTo>
                  <a:pt x="875" y="291"/>
                </a:lnTo>
                <a:lnTo>
                  <a:pt x="872" y="2008"/>
                </a:lnTo>
                <a:lnTo>
                  <a:pt x="8" y="1672"/>
                </a:lnTo>
              </a:path>
            </a:pathLst>
          </a:custGeom>
          <a:blipFill rotWithShape="0">
            <a:blip r:embed="rId1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3"/>
          <p:cNvSpPr/>
          <p:nvPr/>
        </p:nvSpPr>
        <p:spPr>
          <a:xfrm>
            <a:off x="990720" y="2666880"/>
            <a:ext cx="1766880" cy="299412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2994120"/>
              <a:gd name="textAreaBottom" fmla="*/ 2994480 h 2994120"/>
            </a:gdLst>
            <a:ahLst/>
            <a:rect l="textAreaLeft" t="textAreaTop" r="textAreaRight" b="textAreaBottom"/>
            <a:pathLst>
              <a:path w="1113" h="1886">
                <a:moveTo>
                  <a:pt x="16" y="1664"/>
                </a:moveTo>
                <a:lnTo>
                  <a:pt x="0" y="0"/>
                </a:lnTo>
                <a:lnTo>
                  <a:pt x="1113" y="139"/>
                </a:lnTo>
                <a:lnTo>
                  <a:pt x="1104" y="1886"/>
                </a:lnTo>
                <a:lnTo>
                  <a:pt x="8" y="1672"/>
                </a:lnTo>
              </a:path>
            </a:pathLst>
          </a:custGeom>
          <a:blipFill rotWithShape="0">
            <a:blip r:embed="rId1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838080" y="2895480"/>
            <a:ext cx="3907080" cy="3403800"/>
          </a:xfrm>
          <a:custGeom>
            <a:avLst/>
            <a:gdLst>
              <a:gd name="textAreaLeft" fmla="*/ 0 w 3907080"/>
              <a:gd name="textAreaRight" fmla="*/ 3907440 w 390708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1895" h="1824">
                <a:moveTo>
                  <a:pt x="10" y="64"/>
                </a:moveTo>
                <a:cubicBezTo>
                  <a:pt x="29" y="86"/>
                  <a:pt x="65" y="155"/>
                  <a:pt x="122" y="196"/>
                </a:cubicBezTo>
                <a:cubicBezTo>
                  <a:pt x="179" y="237"/>
                  <a:pt x="283" y="284"/>
                  <a:pt x="354" y="312"/>
                </a:cubicBezTo>
                <a:cubicBezTo>
                  <a:pt x="425" y="340"/>
                  <a:pt x="461" y="351"/>
                  <a:pt x="548" y="366"/>
                </a:cubicBezTo>
                <a:cubicBezTo>
                  <a:pt x="635" y="381"/>
                  <a:pt x="742" y="400"/>
                  <a:pt x="874" y="400"/>
                </a:cubicBezTo>
                <a:cubicBezTo>
                  <a:pt x="1006" y="400"/>
                  <a:pt x="1213" y="388"/>
                  <a:pt x="1342" y="366"/>
                </a:cubicBezTo>
                <a:cubicBezTo>
                  <a:pt x="1471" y="344"/>
                  <a:pt x="1566" y="306"/>
                  <a:pt x="1646" y="270"/>
                </a:cubicBezTo>
                <a:cubicBezTo>
                  <a:pt x="1726" y="234"/>
                  <a:pt x="1786" y="184"/>
                  <a:pt x="1824" y="150"/>
                </a:cubicBezTo>
                <a:cubicBezTo>
                  <a:pt x="1862" y="116"/>
                  <a:pt x="1866" y="86"/>
                  <a:pt x="1876" y="64"/>
                </a:cubicBezTo>
                <a:cubicBezTo>
                  <a:pt x="1886" y="42"/>
                  <a:pt x="1881" y="0"/>
                  <a:pt x="1882" y="16"/>
                </a:cubicBezTo>
                <a:cubicBezTo>
                  <a:pt x="1883" y="32"/>
                  <a:pt x="1882" y="56"/>
                  <a:pt x="1882" y="160"/>
                </a:cubicBezTo>
                <a:cubicBezTo>
                  <a:pt x="1882" y="264"/>
                  <a:pt x="1882" y="456"/>
                  <a:pt x="1882" y="640"/>
                </a:cubicBezTo>
                <a:cubicBezTo>
                  <a:pt x="1882" y="824"/>
                  <a:pt x="1882" y="1128"/>
                  <a:pt x="1882" y="1264"/>
                </a:cubicBezTo>
                <a:cubicBezTo>
                  <a:pt x="1882" y="1400"/>
                  <a:pt x="1895" y="1403"/>
                  <a:pt x="1882" y="1456"/>
                </a:cubicBezTo>
                <a:cubicBezTo>
                  <a:pt x="1869" y="1509"/>
                  <a:pt x="1860" y="1540"/>
                  <a:pt x="1806" y="1584"/>
                </a:cubicBezTo>
                <a:cubicBezTo>
                  <a:pt x="1752" y="1628"/>
                  <a:pt x="1665" y="1686"/>
                  <a:pt x="1560" y="1722"/>
                </a:cubicBezTo>
                <a:cubicBezTo>
                  <a:pt x="1455" y="1758"/>
                  <a:pt x="1304" y="1787"/>
                  <a:pt x="1174" y="1802"/>
                </a:cubicBezTo>
                <a:cubicBezTo>
                  <a:pt x="1044" y="1817"/>
                  <a:pt x="915" y="1824"/>
                  <a:pt x="778" y="1812"/>
                </a:cubicBezTo>
                <a:cubicBezTo>
                  <a:pt x="641" y="1800"/>
                  <a:pt x="455" y="1760"/>
                  <a:pt x="352" y="1732"/>
                </a:cubicBezTo>
                <a:cubicBezTo>
                  <a:pt x="249" y="1704"/>
                  <a:pt x="207" y="1672"/>
                  <a:pt x="158" y="1642"/>
                </a:cubicBezTo>
                <a:cubicBezTo>
                  <a:pt x="109" y="1612"/>
                  <a:pt x="83" y="1584"/>
                  <a:pt x="58" y="1552"/>
                </a:cubicBezTo>
                <a:cubicBezTo>
                  <a:pt x="33" y="1520"/>
                  <a:pt x="16" y="1482"/>
                  <a:pt x="8" y="1450"/>
                </a:cubicBezTo>
                <a:cubicBezTo>
                  <a:pt x="0" y="1418"/>
                  <a:pt x="10" y="1431"/>
                  <a:pt x="10" y="1360"/>
                </a:cubicBezTo>
                <a:cubicBezTo>
                  <a:pt x="10" y="1289"/>
                  <a:pt x="10" y="1176"/>
                  <a:pt x="10" y="1024"/>
                </a:cubicBezTo>
                <a:cubicBezTo>
                  <a:pt x="10" y="872"/>
                  <a:pt x="10" y="616"/>
                  <a:pt x="10" y="448"/>
                </a:cubicBezTo>
                <a:cubicBezTo>
                  <a:pt x="10" y="280"/>
                  <a:pt x="10" y="148"/>
                  <a:pt x="10" y="16"/>
                </a:cubicBezTo>
              </a:path>
            </a:pathLst>
          </a:custGeom>
          <a:gradFill rotWithShape="0">
            <a:gsLst>
              <a:gs pos="0">
                <a:srgbClr val="bbe0e3">
                  <a:alpha val="41176"/>
                </a:srgbClr>
              </a:gs>
              <a:gs pos="50000">
                <a:srgbClr val="ffffff">
                  <a:alpha val="37254"/>
                </a:srgbClr>
              </a:gs>
              <a:gs pos="100000">
                <a:srgbClr val="bbe0e3">
                  <a:alpha val="41176"/>
                </a:srgbClr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8"/>
          <p:cNvSpPr/>
          <p:nvPr/>
        </p:nvSpPr>
        <p:spPr>
          <a:xfrm rot="5400000">
            <a:off x="2077920" y="1002960"/>
            <a:ext cx="1433520" cy="38592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43200" h="43200">
                <a:moveTo>
                  <a:pt x="22904" y="39"/>
                </a:moveTo>
                <a:cubicBezTo>
                  <a:pt x="34306" y="729"/>
                  <a:pt x="43200" y="10177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99" y="-1"/>
                  <a:pt x="22198" y="6"/>
                  <a:pt x="22498" y="18"/>
                </a:cubicBezTo>
              </a:path>
              <a:path stroke="0" w="43200" h="43200">
                <a:moveTo>
                  <a:pt x="22904" y="39"/>
                </a:moveTo>
                <a:cubicBezTo>
                  <a:pt x="34306" y="729"/>
                  <a:pt x="43200" y="10177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99" y="-1"/>
                  <a:pt x="22198" y="6"/>
                  <a:pt x="22498" y="18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bbe0e3">
                  <a:alpha val="7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09656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277884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3"/>
          <p:cNvSpPr/>
          <p:nvPr/>
        </p:nvSpPr>
        <p:spPr>
          <a:xfrm>
            <a:off x="468360" y="549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- тело 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5"/>
          <p:cNvSpPr/>
          <p:nvPr/>
        </p:nvSpPr>
        <p:spPr>
          <a:xfrm>
            <a:off x="4572000" y="2060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линдр можно получить вращением прямоугольника вокруг одной из сто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4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6"/>
          <p:cNvSpPr/>
          <p:nvPr/>
        </p:nvSpPr>
        <p:spPr>
          <a:xfrm>
            <a:off x="1332000" y="4292640"/>
            <a:ext cx="273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332000" y="2421000"/>
            <a:ext cx="2714400" cy="2900160"/>
          </a:xfrm>
          <a:prstGeom prst="can">
            <a:avLst>
              <a:gd name="adj" fmla="val 35768"/>
            </a:avLst>
          </a:prstGeom>
          <a:blipFill rotWithShape="0">
            <a:blip r:embed="rId1">
              <a:alphaModFix amt="11000"/>
            </a:blip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2700360" y="19162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700360" y="2924280"/>
            <a:ext cx="0" cy="1871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70036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700360" y="2924280"/>
            <a:ext cx="136692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05488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142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05452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14216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2033640" y="56102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1391040" y="47484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Назовите вокруг какой  из сторон вращ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прямоугольник АВС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3"/>
          <p:cNvGrpSpPr/>
          <p:nvPr/>
        </p:nvGrpSpPr>
        <p:grpSpPr>
          <a:xfrm>
            <a:off x="4932720" y="2565360"/>
            <a:ext cx="2131560" cy="3771720"/>
            <a:chOff x="4932720" y="2565360"/>
            <a:chExt cx="2131560" cy="3771720"/>
          </a:xfrm>
        </p:grpSpPr>
        <p:sp>
          <p:nvSpPr>
            <p:cNvPr id="251" name="Oval 38"/>
            <p:cNvSpPr/>
            <p:nvPr/>
          </p:nvSpPr>
          <p:spPr>
            <a:xfrm rot="5400000">
              <a:off x="4238640" y="3722040"/>
              <a:ext cx="2622240" cy="30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5029200" y="3846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6416640" y="393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9"/>
            <p:cNvSpPr/>
            <p:nvPr/>
          </p:nvSpPr>
          <p:spPr>
            <a:xfrm>
              <a:off x="5420880" y="523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0"/>
            <p:cNvSpPr/>
            <p:nvPr/>
          </p:nvSpPr>
          <p:spPr>
            <a:xfrm flipV="1" rot="10800000">
              <a:off x="6270840" y="526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 flipV="1" rot="10800000">
              <a:off x="5398200" y="587700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с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>
              <a:off x="5550480" y="5187600"/>
              <a:ext cx="771480" cy="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 flipH="1">
              <a:off x="5550120" y="3908520"/>
              <a:ext cx="20160" cy="127908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>
              <a:off x="6321600" y="3877200"/>
              <a:ext cx="0" cy="1310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5572440" y="3908520"/>
              <a:ext cx="7700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7"/>
            <p:cNvSpPr/>
            <p:nvPr/>
          </p:nvSpPr>
          <p:spPr>
            <a:xfrm rot="5400000">
              <a:off x="4592880" y="3336840"/>
              <a:ext cx="2622240" cy="107928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27000"/>
              </a:blip>
              <a:srcRect/>
              <a:stretch/>
            </a:blip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1"/>
            <p:cNvSpPr/>
            <p:nvPr/>
          </p:nvSpPr>
          <p:spPr>
            <a:xfrm>
              <a:off x="6370920" y="3859920"/>
              <a:ext cx="69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2"/>
            <p:cNvSpPr/>
            <p:nvPr/>
          </p:nvSpPr>
          <p:spPr>
            <a:xfrm flipH="1">
              <a:off x="4932720" y="3877200"/>
              <a:ext cx="61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1"/>
          <p:cNvSpPr/>
          <p:nvPr/>
        </p:nvSpPr>
        <p:spPr>
          <a:xfrm>
            <a:off x="2700360" y="4797360"/>
            <a:ext cx="136692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ЕЧЕНИЯ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260280"/>
            <a:ext cx="777384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aramond"/>
              </a:rPr>
              <a:t>Сечение цилиндра, плоскостью параллельно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Группа 2"/>
          <p:cNvGrpSpPr/>
          <p:nvPr/>
        </p:nvGrpSpPr>
        <p:grpSpPr>
          <a:xfrm>
            <a:off x="428760" y="1214280"/>
            <a:ext cx="3000240" cy="4000680"/>
            <a:chOff x="428760" y="1214280"/>
            <a:chExt cx="3000240" cy="4000680"/>
          </a:xfrm>
        </p:grpSpPr>
        <p:sp>
          <p:nvSpPr>
            <p:cNvPr id="268" name="Цилиндр 3"/>
            <p:cNvSpPr/>
            <p:nvPr/>
          </p:nvSpPr>
          <p:spPr>
            <a:xfrm>
              <a:off x="504720" y="1214280"/>
              <a:ext cx="2847960" cy="3918240"/>
            </a:xfrm>
            <a:prstGeom prst="can">
              <a:avLst>
                <a:gd name="adj" fmla="val 19685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Группа 25"/>
            <p:cNvGrpSpPr/>
            <p:nvPr/>
          </p:nvGrpSpPr>
          <p:grpSpPr>
            <a:xfrm>
              <a:off x="428760" y="4381560"/>
              <a:ext cx="3000240" cy="833400"/>
              <a:chOff x="428760" y="4381560"/>
              <a:chExt cx="3000240" cy="833400"/>
            </a:xfrm>
          </p:grpSpPr>
          <p:sp>
            <p:nvSpPr>
              <p:cNvPr id="270" name="Дуга 5"/>
              <p:cNvSpPr/>
              <p:nvPr/>
            </p:nvSpPr>
            <p:spPr>
              <a:xfrm>
                <a:off x="428760" y="4381560"/>
                <a:ext cx="2921040" cy="833400"/>
              </a:xfrm>
              <a:custGeom>
                <a:avLst/>
                <a:gdLst>
                  <a:gd name="textAreaLeft" fmla="*/ 1524600 w 2921040"/>
                  <a:gd name="textAreaRight" fmla="*/ 2921400 w 292104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Дуга 6"/>
              <p:cNvSpPr/>
              <p:nvPr/>
            </p:nvSpPr>
            <p:spPr>
              <a:xfrm flipH="1">
                <a:off x="507960" y="4381560"/>
                <a:ext cx="2921040" cy="833400"/>
              </a:xfrm>
              <a:custGeom>
                <a:avLst/>
                <a:gdLst>
                  <a:gd name="textAreaLeft" fmla="*/ 1460520 w 2921040"/>
                  <a:gd name="textAreaRight" fmla="*/ 2921400 w 292104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58"/>
          <p:cNvSpPr/>
          <p:nvPr/>
        </p:nvSpPr>
        <p:spPr>
          <a:xfrm>
            <a:off x="3780000" y="148428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Сечение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лоскостью,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араллельно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его оси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─ прямоугольник. Две его сторо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бразующие цилиндра, а две другие  ─ параллельные хорды основани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36"/>
          <p:cNvGrpSpPr/>
          <p:nvPr/>
        </p:nvGrpSpPr>
        <p:grpSpPr>
          <a:xfrm>
            <a:off x="714240" y="1213920"/>
            <a:ext cx="1001880" cy="3788280"/>
            <a:chOff x="714240" y="1213920"/>
            <a:chExt cx="1001880" cy="3788280"/>
          </a:xfrm>
        </p:grpSpPr>
        <p:grpSp>
          <p:nvGrpSpPr>
            <p:cNvPr id="277" name="Группа 22"/>
            <p:cNvGrpSpPr/>
            <p:nvPr/>
          </p:nvGrpSpPr>
          <p:grpSpPr>
            <a:xfrm>
              <a:off x="714240" y="1213920"/>
              <a:ext cx="1001880" cy="3788280"/>
              <a:chOff x="714240" y="1213920"/>
              <a:chExt cx="1001880" cy="3788280"/>
            </a:xfrm>
          </p:grpSpPr>
          <p:sp>
            <p:nvSpPr>
              <p:cNvPr id="278" name="Прямая соединительная линия 15"/>
              <p:cNvSpPr/>
              <p:nvPr/>
            </p:nvSpPr>
            <p:spPr>
              <a:xfrm flipV="1">
                <a:off x="714240" y="12139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Прямая соединительная линия 17"/>
              <p:cNvSpPr/>
              <p:nvPr/>
            </p:nvSpPr>
            <p:spPr>
              <a:xfrm flipH="1">
                <a:off x="714240" y="178740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Прямая соединительная линия 20"/>
              <p:cNvSpPr/>
              <p:nvPr/>
            </p:nvSpPr>
            <p:spPr>
              <a:xfrm flipV="1">
                <a:off x="714240" y="44287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Прямая соединительная линия 21"/>
              <p:cNvSpPr/>
              <p:nvPr/>
            </p:nvSpPr>
            <p:spPr>
              <a:xfrm flipH="1">
                <a:off x="1714680" y="121428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Прямая соединительная линия 24"/>
            <p:cNvSpPr/>
            <p:nvPr/>
          </p:nvSpPr>
          <p:spPr>
            <a:xfrm flipV="1">
              <a:off x="714240" y="21427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25"/>
            <p:cNvSpPr/>
            <p:nvPr/>
          </p:nvSpPr>
          <p:spPr>
            <a:xfrm flipV="1">
              <a:off x="714240" y="23569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26"/>
            <p:cNvSpPr/>
            <p:nvPr/>
          </p:nvSpPr>
          <p:spPr>
            <a:xfrm flipV="1">
              <a:off x="714240" y="264276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27"/>
            <p:cNvSpPr/>
            <p:nvPr/>
          </p:nvSpPr>
          <p:spPr>
            <a:xfrm flipV="1">
              <a:off x="714240" y="292860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8"/>
            <p:cNvSpPr/>
            <p:nvPr/>
          </p:nvSpPr>
          <p:spPr>
            <a:xfrm flipV="1">
              <a:off x="714240" y="32140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9"/>
            <p:cNvSpPr/>
            <p:nvPr/>
          </p:nvSpPr>
          <p:spPr>
            <a:xfrm flipV="1">
              <a:off x="714240" y="342864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30"/>
            <p:cNvSpPr/>
            <p:nvPr/>
          </p:nvSpPr>
          <p:spPr>
            <a:xfrm flipV="1">
              <a:off x="714240" y="37144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31"/>
            <p:cNvSpPr/>
            <p:nvPr/>
          </p:nvSpPr>
          <p:spPr>
            <a:xfrm flipV="1">
              <a:off x="714240" y="4000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32"/>
            <p:cNvSpPr/>
            <p:nvPr/>
          </p:nvSpPr>
          <p:spPr>
            <a:xfrm flipV="1">
              <a:off x="714240" y="42145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Прямая соединительная линия 33"/>
            <p:cNvSpPr/>
            <p:nvPr/>
          </p:nvSpPr>
          <p:spPr>
            <a:xfrm flipV="1">
              <a:off x="714240" y="14281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34"/>
            <p:cNvSpPr/>
            <p:nvPr/>
          </p:nvSpPr>
          <p:spPr>
            <a:xfrm flipV="1">
              <a:off x="714240" y="1642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35"/>
            <p:cNvSpPr/>
            <p:nvPr/>
          </p:nvSpPr>
          <p:spPr>
            <a:xfrm flipV="1">
              <a:off x="714240" y="18568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36"/>
          <p:cNvSpPr/>
          <p:nvPr/>
        </p:nvSpPr>
        <p:spPr>
          <a:xfrm>
            <a:off x="428760" y="1357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8"/>
          <p:cNvSpPr/>
          <p:nvPr/>
        </p:nvSpPr>
        <p:spPr>
          <a:xfrm>
            <a:off x="150012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9"/>
          <p:cNvSpPr/>
          <p:nvPr/>
        </p:nvSpPr>
        <p:spPr>
          <a:xfrm>
            <a:off x="50004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0"/>
          <p:cNvSpPr/>
          <p:nvPr/>
        </p:nvSpPr>
        <p:spPr>
          <a:xfrm>
            <a:off x="1714680" y="43578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3"/>
          <p:cNvSpPr/>
          <p:nvPr/>
        </p:nvSpPr>
        <p:spPr>
          <a:xfrm>
            <a:off x="3780000" y="472428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7"/>
          <p:cNvSpPr/>
          <p:nvPr/>
        </p:nvSpPr>
        <p:spPr>
          <a:xfrm>
            <a:off x="1979640" y="134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1"/>
          <p:cNvSpPr/>
          <p:nvPr/>
        </p:nvSpPr>
        <p:spPr>
          <a:xfrm>
            <a:off x="1979640" y="45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ечение цилиндра, проходящее через о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2"/>
          <p:cNvGrpSpPr/>
          <p:nvPr/>
        </p:nvGrpSpPr>
        <p:grpSpPr>
          <a:xfrm>
            <a:off x="357120" y="1214280"/>
            <a:ext cx="3000240" cy="4000680"/>
            <a:chOff x="357120" y="1214280"/>
            <a:chExt cx="3000240" cy="4000680"/>
          </a:xfrm>
        </p:grpSpPr>
        <p:sp>
          <p:nvSpPr>
            <p:cNvPr id="304" name="Цилиндр 3"/>
            <p:cNvSpPr/>
            <p:nvPr/>
          </p:nvSpPr>
          <p:spPr>
            <a:xfrm>
              <a:off x="433080" y="1214280"/>
              <a:ext cx="2848320" cy="3918240"/>
            </a:xfrm>
            <a:prstGeom prst="can">
              <a:avLst>
                <a:gd name="adj" fmla="val 19685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Группа 25"/>
            <p:cNvGrpSpPr/>
            <p:nvPr/>
          </p:nvGrpSpPr>
          <p:grpSpPr>
            <a:xfrm>
              <a:off x="357120" y="4381560"/>
              <a:ext cx="3000240" cy="833400"/>
              <a:chOff x="357120" y="4381560"/>
              <a:chExt cx="3000240" cy="833400"/>
            </a:xfrm>
          </p:grpSpPr>
          <p:sp>
            <p:nvSpPr>
              <p:cNvPr id="306" name="Дуга 5"/>
              <p:cNvSpPr/>
              <p:nvPr/>
            </p:nvSpPr>
            <p:spPr>
              <a:xfrm>
                <a:off x="357120" y="4381560"/>
                <a:ext cx="2921400" cy="833400"/>
              </a:xfrm>
              <a:custGeom>
                <a:avLst/>
                <a:gdLst>
                  <a:gd name="textAreaLeft" fmla="*/ 1524960 w 2921400"/>
                  <a:gd name="textAreaRight" fmla="*/ 2921760 w 292140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Дуга 6"/>
              <p:cNvSpPr/>
              <p:nvPr/>
            </p:nvSpPr>
            <p:spPr>
              <a:xfrm flipH="1">
                <a:off x="435600" y="4381560"/>
                <a:ext cx="2921400" cy="833400"/>
              </a:xfrm>
              <a:custGeom>
                <a:avLst/>
                <a:gdLst>
                  <a:gd name="textAreaLeft" fmla="*/ 1460520 w 2921400"/>
                  <a:gd name="textAreaRight" fmla="*/ 2921400 w 292140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4286160" y="135720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Сечени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цилиндра, проходящее через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сь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осевым сечением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 , так же является прямоугольником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38"/>
          <p:cNvGrpSpPr/>
          <p:nvPr/>
        </p:nvGrpSpPr>
        <p:grpSpPr>
          <a:xfrm>
            <a:off x="928800" y="1285560"/>
            <a:ext cx="1928880" cy="3787920"/>
            <a:chOff x="928800" y="1285560"/>
            <a:chExt cx="1928880" cy="3787920"/>
          </a:xfrm>
        </p:grpSpPr>
        <p:grpSp>
          <p:nvGrpSpPr>
            <p:cNvPr id="313" name="Группа 22"/>
            <p:cNvGrpSpPr/>
            <p:nvPr/>
          </p:nvGrpSpPr>
          <p:grpSpPr>
            <a:xfrm>
              <a:off x="928800" y="1285560"/>
              <a:ext cx="1928880" cy="3787920"/>
              <a:chOff x="928800" y="1285560"/>
              <a:chExt cx="1928880" cy="3787920"/>
            </a:xfrm>
          </p:grpSpPr>
          <p:sp>
            <p:nvSpPr>
              <p:cNvPr id="314" name="Прямая соединительная линия 52"/>
              <p:cNvSpPr/>
              <p:nvPr/>
            </p:nvSpPr>
            <p:spPr>
              <a:xfrm flipV="1">
                <a:off x="930240" y="12855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53"/>
              <p:cNvSpPr/>
              <p:nvPr/>
            </p:nvSpPr>
            <p:spPr>
              <a:xfrm flipH="1">
                <a:off x="928800" y="185868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ая соединительная линия 54"/>
              <p:cNvSpPr/>
              <p:nvPr/>
            </p:nvSpPr>
            <p:spPr>
              <a:xfrm flipV="1">
                <a:off x="930240" y="45003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Прямая соединительная линия 55"/>
              <p:cNvSpPr/>
              <p:nvPr/>
            </p:nvSpPr>
            <p:spPr>
              <a:xfrm flipH="1">
                <a:off x="2854800" y="128592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Прямая соединительная линия 40"/>
            <p:cNvSpPr/>
            <p:nvPr/>
          </p:nvSpPr>
          <p:spPr>
            <a:xfrm flipV="1">
              <a:off x="928800" y="22140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ая соединительная линия 41"/>
            <p:cNvSpPr/>
            <p:nvPr/>
          </p:nvSpPr>
          <p:spPr>
            <a:xfrm flipV="1">
              <a:off x="928800" y="24285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42"/>
            <p:cNvSpPr/>
            <p:nvPr/>
          </p:nvSpPr>
          <p:spPr>
            <a:xfrm flipV="1">
              <a:off x="928800" y="271404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43"/>
            <p:cNvSpPr/>
            <p:nvPr/>
          </p:nvSpPr>
          <p:spPr>
            <a:xfrm flipV="1">
              <a:off x="928800" y="299988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44"/>
            <p:cNvSpPr/>
            <p:nvPr/>
          </p:nvSpPr>
          <p:spPr>
            <a:xfrm flipV="1">
              <a:off x="928800" y="32857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45"/>
            <p:cNvSpPr/>
            <p:nvPr/>
          </p:nvSpPr>
          <p:spPr>
            <a:xfrm flipV="1">
              <a:off x="928800" y="34999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46"/>
            <p:cNvSpPr/>
            <p:nvPr/>
          </p:nvSpPr>
          <p:spPr>
            <a:xfrm flipV="1">
              <a:off x="928800" y="3785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47"/>
            <p:cNvSpPr/>
            <p:nvPr/>
          </p:nvSpPr>
          <p:spPr>
            <a:xfrm flipV="1">
              <a:off x="928800" y="40716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48"/>
            <p:cNvSpPr/>
            <p:nvPr/>
          </p:nvSpPr>
          <p:spPr>
            <a:xfrm flipV="1">
              <a:off x="928800" y="42858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49"/>
            <p:cNvSpPr/>
            <p:nvPr/>
          </p:nvSpPr>
          <p:spPr>
            <a:xfrm flipV="1">
              <a:off x="928800" y="1499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50"/>
            <p:cNvSpPr/>
            <p:nvPr/>
          </p:nvSpPr>
          <p:spPr>
            <a:xfrm flipV="1">
              <a:off x="928800" y="17139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51"/>
            <p:cNvSpPr/>
            <p:nvPr/>
          </p:nvSpPr>
          <p:spPr>
            <a:xfrm flipV="1">
              <a:off x="928800" y="19285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56"/>
          <p:cNvSpPr/>
          <p:nvPr/>
        </p:nvSpPr>
        <p:spPr>
          <a:xfrm>
            <a:off x="857160" y="1500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7"/>
          <p:cNvSpPr/>
          <p:nvPr/>
        </p:nvSpPr>
        <p:spPr>
          <a:xfrm>
            <a:off x="278604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8"/>
          <p:cNvSpPr/>
          <p:nvPr/>
        </p:nvSpPr>
        <p:spPr>
          <a:xfrm>
            <a:off x="292896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0"/>
          <p:cNvSpPr/>
          <p:nvPr/>
        </p:nvSpPr>
        <p:spPr>
          <a:xfrm>
            <a:off x="71424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5"/>
          <p:cNvSpPr/>
          <p:nvPr/>
        </p:nvSpPr>
        <p:spPr>
          <a:xfrm>
            <a:off x="4643280" y="3929040"/>
            <a:ext cx="4143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ил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B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ч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2"/>
          <p:cNvGraphicFramePr/>
          <p:nvPr/>
        </p:nvGraphicFramePr>
        <p:xfrm>
          <a:off x="250920" y="1197000"/>
          <a:ext cx="43592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43592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4640400" y="1403280"/>
          <a:ext cx="450360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0400" y="1403280"/>
                    <a:ext cx="45036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Группа 2"/>
          <p:cNvGrpSpPr/>
          <p:nvPr/>
        </p:nvGrpSpPr>
        <p:grpSpPr>
          <a:xfrm>
            <a:off x="785880" y="1428840"/>
            <a:ext cx="2785680" cy="3429000"/>
            <a:chOff x="785880" y="1428840"/>
            <a:chExt cx="2785680" cy="3429000"/>
          </a:xfrm>
        </p:grpSpPr>
        <p:sp>
          <p:nvSpPr>
            <p:cNvPr id="341" name="Цилиндр 3"/>
            <p:cNvSpPr/>
            <p:nvPr/>
          </p:nvSpPr>
          <p:spPr>
            <a:xfrm>
              <a:off x="85716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Группа 25"/>
            <p:cNvGrpSpPr/>
            <p:nvPr/>
          </p:nvGrpSpPr>
          <p:grpSpPr>
            <a:xfrm>
              <a:off x="785880" y="4143600"/>
              <a:ext cx="2785680" cy="714240"/>
              <a:chOff x="785880" y="4143600"/>
              <a:chExt cx="2785680" cy="714240"/>
            </a:xfrm>
          </p:grpSpPr>
          <p:sp>
            <p:nvSpPr>
              <p:cNvPr id="343" name="Дуга 5"/>
              <p:cNvSpPr/>
              <p:nvPr/>
            </p:nvSpPr>
            <p:spPr>
              <a:xfrm>
                <a:off x="785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Дуга 6"/>
              <p:cNvSpPr/>
              <p:nvPr/>
            </p:nvSpPr>
            <p:spPr>
              <a:xfrm flipH="1">
                <a:off x="857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Text Box 58"/>
          <p:cNvSpPr/>
          <p:nvPr/>
        </p:nvSpPr>
        <p:spPr>
          <a:xfrm>
            <a:off x="4143240" y="1643040"/>
            <a:ext cx="41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лоскость параллельная плоскости осн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15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араллелограмм 20"/>
          <p:cNvSpPr/>
          <p:nvPr/>
        </p:nvSpPr>
        <p:spPr>
          <a:xfrm>
            <a:off x="214200" y="2500200"/>
            <a:ext cx="3643560" cy="1143000"/>
          </a:xfrm>
          <a:prstGeom prst="parallelogram">
            <a:avLst>
              <a:gd name="adj" fmla="val 2798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000680" y="3000240"/>
            <a:ext cx="48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ересекает его боковую поверхность по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окружности,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4214880" y="400068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вной окружност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23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ечение  параллельное основан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4143240" y="500076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ечение  -</a:t>
            </a:r>
            <a:r>
              <a:rPr b="1" i="1" lang="ru-RU" sz="2800" spc="-1" strike="noStrike">
                <a:solidFill>
                  <a:srgbClr val="0000cc"/>
                </a:solidFill>
                <a:latin typeface="Garamond"/>
              </a:rPr>
              <a:t>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6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http://im3-tub-ru.yandex.net/i?id=ef47e31a3b784a33044efaf39a2744a8-07-144&amp;n=21"/>
          <p:cNvPicPr/>
          <p:nvPr/>
        </p:nvPicPr>
        <p:blipFill>
          <a:blip r:embed="rId1"/>
          <a:stretch/>
        </p:blipFill>
        <p:spPr>
          <a:xfrm>
            <a:off x="554040" y="765000"/>
            <a:ext cx="8589960" cy="583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7"/>
          <p:cNvPicPr/>
          <p:nvPr/>
        </p:nvPicPr>
        <p:blipFill>
          <a:blip r:embed="rId2"/>
          <a:stretch/>
        </p:blipFill>
        <p:spPr>
          <a:xfrm>
            <a:off x="4284720" y="1125360"/>
            <a:ext cx="44258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2"/>
          <p:cNvSpPr/>
          <p:nvPr/>
        </p:nvSpPr>
        <p:spPr>
          <a:xfrm>
            <a:off x="0" y="54936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лощадь поверх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цилиндра – площадь его развер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9"/>
          <p:cNvGrpSpPr/>
          <p:nvPr/>
        </p:nvGrpSpPr>
        <p:grpSpPr>
          <a:xfrm>
            <a:off x="2209680" y="2308320"/>
            <a:ext cx="2133720" cy="3263760"/>
            <a:chOff x="2209680" y="2308320"/>
            <a:chExt cx="2133720" cy="3263760"/>
          </a:xfrm>
        </p:grpSpPr>
        <p:sp>
          <p:nvSpPr>
            <p:cNvPr id="357" name="Line 2"/>
            <p:cNvSpPr/>
            <p:nvPr/>
          </p:nvSpPr>
          <p:spPr>
            <a:xfrm>
              <a:off x="3276360" y="268920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3"/>
            <p:cNvGrpSpPr/>
            <p:nvPr/>
          </p:nvGrpSpPr>
          <p:grpSpPr>
            <a:xfrm>
              <a:off x="2209680" y="2308320"/>
              <a:ext cx="2133720" cy="3047760"/>
              <a:chOff x="2209680" y="2308320"/>
              <a:chExt cx="2133720" cy="3047760"/>
            </a:xfrm>
          </p:grpSpPr>
          <p:sp>
            <p:nvSpPr>
              <p:cNvPr id="359" name="Arc 14"/>
              <p:cNvSpPr/>
              <p:nvPr/>
            </p:nvSpPr>
            <p:spPr>
              <a:xfrm rot="5400000">
                <a:off x="3083040" y="3775680"/>
                <a:ext cx="377640" cy="210708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107080"/>
                  <a:gd name="textAreaBottom" fmla="*/ 2107080 h 2107080"/>
                </a:gdLst>
                <a:ahLst/>
                <a:rect l="textAreaLeft" t="textAreaTop" r="textAreaRight" b="textAreaBottom"/>
                <a:pathLst>
                  <a:path fill="none" w="22165" h="43138">
                    <a:moveTo>
                      <a:pt x="22164" y="43130"/>
                    </a:moveTo>
                    <a:cubicBezTo>
                      <a:pt x="21976" y="43135"/>
                      <a:pt x="21788" y="43137"/>
                      <a:pt x="21600" y="43138"/>
                    </a:cubicBezTo>
                    <a:cubicBezTo>
                      <a:pt x="9670" y="43138"/>
                      <a:pt x="0" y="33467"/>
                      <a:pt x="0" y="21538"/>
                    </a:cubicBezTo>
                    <a:cubicBezTo>
                      <a:pt x="-1" y="10244"/>
                      <a:pt x="8699" y="857"/>
                      <a:pt x="19961" y="0"/>
                    </a:cubicBezTo>
                  </a:path>
                  <a:path stroke="0" w="22165" h="43138">
                    <a:moveTo>
                      <a:pt x="22164" y="43130"/>
                    </a:moveTo>
                    <a:cubicBezTo>
                      <a:pt x="21976" y="43135"/>
                      <a:pt x="21788" y="43137"/>
                      <a:pt x="21600" y="43138"/>
                    </a:cubicBezTo>
                    <a:cubicBezTo>
                      <a:pt x="9670" y="43138"/>
                      <a:pt x="0" y="33467"/>
                      <a:pt x="0" y="21538"/>
                    </a:cubicBezTo>
                    <a:cubicBezTo>
                      <a:pt x="-1" y="10244"/>
                      <a:pt x="8699" y="857"/>
                      <a:pt x="19961" y="0"/>
                    </a:cubicBezTo>
                    <a:lnTo>
                      <a:pt x="21600" y="2153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AutoShape 15"/>
              <p:cNvGrpSpPr/>
              <p:nvPr/>
            </p:nvGrpSpPr>
            <p:grpSpPr>
              <a:xfrm>
                <a:off x="2209680" y="2308320"/>
                <a:ext cx="2133720" cy="3047760"/>
                <a:chOff x="2209680" y="2308320"/>
                <a:chExt cx="2133720" cy="3047760"/>
              </a:xfrm>
            </p:grpSpPr>
            <p:pic>
              <p:nvPicPr>
                <p:cNvPr id="361" name="AutoShap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09680" y="2308320"/>
                  <a:ext cx="2133720" cy="30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2218680" y="3093120"/>
                  <a:ext cx="2109960" cy="186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Freeform 19"/>
            <p:cNvSpPr/>
            <p:nvPr/>
          </p:nvSpPr>
          <p:spPr>
            <a:xfrm>
              <a:off x="2489040" y="2917800"/>
              <a:ext cx="12600" cy="2324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8" h="1464">
                  <a:moveTo>
                    <a:pt x="0" y="0"/>
                  </a:moveTo>
                  <a:lnTo>
                    <a:pt x="8" y="24"/>
                  </a:lnTo>
                  <a:lnTo>
                    <a:pt x="8" y="14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1"/>
            <p:cNvGrpSpPr/>
            <p:nvPr/>
          </p:nvGrpSpPr>
          <p:grpSpPr>
            <a:xfrm>
              <a:off x="2297880" y="2536920"/>
              <a:ext cx="409320" cy="3035160"/>
              <a:chOff x="2297880" y="2536920"/>
              <a:chExt cx="409320" cy="3035160"/>
            </a:xfrm>
          </p:grpSpPr>
          <p:sp>
            <p:nvSpPr>
              <p:cNvPr id="365" name="Text Box 22"/>
              <p:cNvSpPr/>
              <p:nvPr/>
            </p:nvSpPr>
            <p:spPr>
              <a:xfrm>
                <a:off x="2297880" y="5203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23"/>
              <p:cNvSpPr/>
              <p:nvPr/>
            </p:nvSpPr>
            <p:spPr>
              <a:xfrm>
                <a:off x="2374200" y="25369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Text Box 24"/>
          <p:cNvSpPr/>
          <p:nvPr/>
        </p:nvSpPr>
        <p:spPr>
          <a:xfrm>
            <a:off x="1680120" y="3429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Freeform 25"/>
          <p:cNvGrpSpPr/>
          <p:nvPr/>
        </p:nvGrpSpPr>
        <p:grpSpPr>
          <a:xfrm>
            <a:off x="1255680" y="1901880"/>
            <a:ext cx="7712280" cy="3517920"/>
            <a:chOff x="1255680" y="1901880"/>
            <a:chExt cx="7712280" cy="3517920"/>
          </a:xfrm>
        </p:grpSpPr>
        <p:pic>
          <p:nvPicPr>
            <p:cNvPr id="369" name="Freeform 25" descr=""/>
            <p:cNvPicPr/>
            <p:nvPr/>
          </p:nvPicPr>
          <p:blipFill>
            <a:blip r:embed="rId2"/>
            <a:stretch/>
          </p:blipFill>
          <p:spPr>
            <a:xfrm>
              <a:off x="1255680" y="1901880"/>
              <a:ext cx="771228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258920" y="1916280"/>
              <a:ext cx="76960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Oval 26"/>
          <p:cNvSpPr/>
          <p:nvPr/>
        </p:nvSpPr>
        <p:spPr>
          <a:xfrm>
            <a:off x="5791320" y="228600"/>
            <a:ext cx="2133360" cy="198108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66ffff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7"/>
          <p:cNvSpPr/>
          <p:nvPr/>
        </p:nvSpPr>
        <p:spPr>
          <a:xfrm>
            <a:off x="6172200" y="4533840"/>
            <a:ext cx="2133720" cy="198144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66ffff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0"/>
              <p:cNvSpPr txBox="1"/>
              <p:nvPr/>
            </p:nvSpPr>
            <p:spPr>
              <a:xfrm>
                <a:off x="4608360" y="2654280"/>
                <a:ext cx="23655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1"/>
              <p:cNvSpPr txBox="1"/>
              <p:nvPr/>
            </p:nvSpPr>
            <p:spPr>
              <a:xfrm>
                <a:off x="4307040" y="3357720"/>
                <a:ext cx="286056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3"/>
              <p:cNvSpPr txBox="1"/>
              <p:nvPr/>
            </p:nvSpPr>
            <p:spPr>
              <a:xfrm>
                <a:off x="6019920" y="736560"/>
                <a:ext cx="160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5"/>
              <p:cNvSpPr txBox="1"/>
              <p:nvPr/>
            </p:nvSpPr>
            <p:spPr>
              <a:xfrm>
                <a:off x="6012000" y="765000"/>
                <a:ext cx="1600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12917 0.03148 E">
                                      <p:cBhvr>
                                        <p:cTn id="615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04584 0.6463 E">
                                      <p:cBhvr>
                                        <p:cTn id="64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258920" y="765000"/>
            <a:ext cx="6913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опросы для изучения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1. Цилиндры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2. Прямой круговой цилиндр и его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3. Цилиндр-тело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4.Сечение цилиндра плос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5. Площадь 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поверхности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7" name="Object 34"/>
              <p:cNvSpPr txBox="1"/>
              <p:nvPr/>
            </p:nvSpPr>
            <p:spPr>
              <a:xfrm>
                <a:off x="900000" y="1484280"/>
                <a:ext cx="5286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8" name="Group 49"/>
          <p:cNvGrpSpPr/>
          <p:nvPr/>
        </p:nvGrpSpPr>
        <p:grpSpPr>
          <a:xfrm>
            <a:off x="1428840" y="3000240"/>
            <a:ext cx="3809880" cy="887400"/>
            <a:chOff x="1428840" y="3000240"/>
            <a:chExt cx="3809880" cy="887400"/>
          </a:xfrm>
        </p:grpSpPr>
        <p:sp>
          <p:nvSpPr>
            <p:cNvPr id="379" name="AutoShape 36"/>
            <p:cNvSpPr/>
            <p:nvPr/>
          </p:nvSpPr>
          <p:spPr>
            <a:xfrm>
              <a:off x="1428840" y="3003480"/>
              <a:ext cx="380988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8"/>
            <p:cNvSpPr/>
            <p:nvPr/>
          </p:nvSpPr>
          <p:spPr>
            <a:xfrm>
              <a:off x="4947840" y="3065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9"/>
            <p:cNvSpPr/>
            <p:nvPr/>
          </p:nvSpPr>
          <p:spPr>
            <a:xfrm>
              <a:off x="3711240" y="3065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0"/>
            <p:cNvSpPr/>
            <p:nvPr/>
          </p:nvSpPr>
          <p:spPr>
            <a:xfrm>
              <a:off x="2723400" y="306540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1"/>
            <p:cNvSpPr/>
            <p:nvPr/>
          </p:nvSpPr>
          <p:spPr>
            <a:xfrm>
              <a:off x="4696920" y="3065400"/>
              <a:ext cx="342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2"/>
            <p:cNvSpPr/>
            <p:nvPr/>
          </p:nvSpPr>
          <p:spPr>
            <a:xfrm>
              <a:off x="3912480" y="3065400"/>
              <a:ext cx="404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3"/>
            <p:cNvSpPr/>
            <p:nvPr/>
          </p:nvSpPr>
          <p:spPr>
            <a:xfrm>
              <a:off x="3430080" y="3071880"/>
              <a:ext cx="342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4"/>
            <p:cNvSpPr/>
            <p:nvPr/>
          </p:nvSpPr>
          <p:spPr>
            <a:xfrm>
              <a:off x="1537200" y="306540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5"/>
            <p:cNvSpPr/>
            <p:nvPr/>
          </p:nvSpPr>
          <p:spPr>
            <a:xfrm>
              <a:off x="1809720" y="3411360"/>
              <a:ext cx="6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0000"/>
                  </a:solidFill>
                  <a:latin typeface="Times New Roman"/>
                </a:rPr>
                <a:t>п.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6"/>
            <p:cNvSpPr/>
            <p:nvPr/>
          </p:nvSpPr>
          <p:spPr>
            <a:xfrm>
              <a:off x="4276440" y="300024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7"/>
            <p:cNvSpPr/>
            <p:nvPr/>
          </p:nvSpPr>
          <p:spPr>
            <a:xfrm>
              <a:off x="2273760" y="300024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8"/>
            <p:cNvSpPr/>
            <p:nvPr/>
          </p:nvSpPr>
          <p:spPr>
            <a:xfrm>
              <a:off x="3016080" y="305748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4"/>
          <p:cNvGrpSpPr/>
          <p:nvPr/>
        </p:nvGrpSpPr>
        <p:grpSpPr>
          <a:xfrm>
            <a:off x="611280" y="1557360"/>
            <a:ext cx="5068080" cy="5644440"/>
            <a:chOff x="611280" y="1557360"/>
            <a:chExt cx="5068080" cy="5644440"/>
          </a:xfrm>
        </p:grpSpPr>
        <p:sp>
          <p:nvSpPr>
            <p:cNvPr id="392" name="AutoShape 5"/>
            <p:cNvSpPr/>
            <p:nvPr/>
          </p:nvSpPr>
          <p:spPr>
            <a:xfrm>
              <a:off x="1609560" y="1774800"/>
              <a:ext cx="2918160" cy="481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6"/>
            <p:cNvGrpSpPr/>
            <p:nvPr/>
          </p:nvGrpSpPr>
          <p:grpSpPr>
            <a:xfrm>
              <a:off x="1626840" y="5340960"/>
              <a:ext cx="2874960" cy="764280"/>
              <a:chOff x="1626840" y="5340960"/>
              <a:chExt cx="2874960" cy="764280"/>
            </a:xfrm>
          </p:grpSpPr>
          <p:sp>
            <p:nvSpPr>
              <p:cNvPr id="394" name="Arc 7"/>
              <p:cNvSpPr/>
              <p:nvPr/>
            </p:nvSpPr>
            <p:spPr>
              <a:xfrm>
                <a:off x="2905920" y="5340960"/>
                <a:ext cx="1595880" cy="76428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8"/>
              <p:cNvSpPr/>
              <p:nvPr/>
            </p:nvSpPr>
            <p:spPr>
              <a:xfrm flipH="1">
                <a:off x="1626480" y="5340960"/>
                <a:ext cx="1595880" cy="764280"/>
              </a:xfrm>
              <a:custGeom>
                <a:avLst/>
                <a:gdLst>
                  <a:gd name="textAreaLeft" fmla="*/ -360 w 1595880"/>
                  <a:gd name="textAreaRight" fmla="*/ 159588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Line 9"/>
            <p:cNvSpPr/>
            <p:nvPr/>
          </p:nvSpPr>
          <p:spPr>
            <a:xfrm>
              <a:off x="1609560" y="236340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"/>
            <p:cNvSpPr/>
            <p:nvPr/>
          </p:nvSpPr>
          <p:spPr>
            <a:xfrm>
              <a:off x="3114360" y="2355840"/>
              <a:ext cx="0" cy="3632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611280" y="178776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4220280" y="18259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3"/>
            <p:cNvSpPr/>
            <p:nvPr/>
          </p:nvSpPr>
          <p:spPr>
            <a:xfrm>
              <a:off x="2377080" y="155736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>
              <a:off x="1609560" y="601164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2108160" y="520524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649440" y="5320080"/>
              <a:ext cx="142020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4259160" y="535896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9"/>
            <p:cNvSpPr/>
            <p:nvPr/>
          </p:nvSpPr>
          <p:spPr>
            <a:xfrm>
              <a:off x="3682800" y="6087960"/>
              <a:ext cx="142092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20"/>
          <p:cNvSpPr/>
          <p:nvPr/>
        </p:nvSpPr>
        <p:spPr>
          <a:xfrm>
            <a:off x="3276720" y="19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1"/>
          <p:cNvSpPr/>
          <p:nvPr/>
        </p:nvSpPr>
        <p:spPr>
          <a:xfrm>
            <a:off x="4579200" y="3573360"/>
            <a:ext cx="45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43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п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.с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ч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38"/>
          <p:cNvSpPr/>
          <p:nvPr/>
        </p:nvSpPr>
        <p:spPr>
          <a:xfrm>
            <a:off x="709560" y="2335320"/>
            <a:ext cx="2998800" cy="274932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2749320"/>
              <a:gd name="textAreaBottom" fmla="*/ 2749680 h 2749320"/>
            </a:gdLst>
            <a:ahLst/>
            <a:rect l="textAreaLeft" t="textAreaTop" r="textAreaRight" b="textAreaBottom"/>
            <a:pathLst>
              <a:path w="1889" h="1732">
                <a:moveTo>
                  <a:pt x="0" y="1715"/>
                </a:moveTo>
                <a:lnTo>
                  <a:pt x="1857" y="0"/>
                </a:lnTo>
                <a:lnTo>
                  <a:pt x="1889" y="1732"/>
                </a:lnTo>
                <a:lnTo>
                  <a:pt x="0" y="1715"/>
                </a:lnTo>
                <a:close/>
              </a:path>
            </a:pathLst>
          </a:custGeom>
          <a:solidFill>
            <a:srgbClr val="9933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684360" y="2349360"/>
            <a:ext cx="3024000" cy="2735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835280" y="512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евое сечение цилиндра – квадрат, диагональ которого равна 20 см. Найдите: а) высоту цилиндра; б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684360" y="2349360"/>
            <a:ext cx="29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755640" y="508464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6588000" y="1676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356000" y="220500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роведем диагональ АС сечения АВ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39528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24000" y="21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3637080" y="21337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63528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 flipV="1">
            <a:off x="684360" y="2349360"/>
            <a:ext cx="2950920" cy="273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4356000" y="2924280"/>
            <a:ext cx="464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авнобедренный, прямоугольный,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DC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= 2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4356000" y="36385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D=45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0"/>
          <p:cNvGrpSpPr/>
          <p:nvPr/>
        </p:nvGrpSpPr>
        <p:grpSpPr>
          <a:xfrm>
            <a:off x="933480" y="4653000"/>
            <a:ext cx="834840" cy="469800"/>
            <a:chOff x="933480" y="4653000"/>
            <a:chExt cx="834840" cy="469800"/>
          </a:xfrm>
        </p:grpSpPr>
        <p:sp>
          <p:nvSpPr>
            <p:cNvPr id="431" name="Arc 18"/>
            <p:cNvSpPr/>
            <p:nvPr/>
          </p:nvSpPr>
          <p:spPr>
            <a:xfrm rot="1107600">
              <a:off x="971640" y="47970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5"/>
            <p:cNvSpPr/>
            <p:nvPr/>
          </p:nvSpPr>
          <p:spPr>
            <a:xfrm>
              <a:off x="1187280" y="4653000"/>
              <a:ext cx="58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39"/>
          <p:cNvGrpSpPr/>
          <p:nvPr/>
        </p:nvGrpSpPr>
        <p:grpSpPr>
          <a:xfrm>
            <a:off x="3054240" y="2626560"/>
            <a:ext cx="591840" cy="659880"/>
            <a:chOff x="3054240" y="2626560"/>
            <a:chExt cx="591840" cy="659880"/>
          </a:xfrm>
        </p:grpSpPr>
        <p:sp>
          <p:nvSpPr>
            <p:cNvPr id="434" name="Arc 22"/>
            <p:cNvSpPr/>
            <p:nvPr/>
          </p:nvSpPr>
          <p:spPr>
            <a:xfrm rot="11066400">
              <a:off x="3348000" y="26370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6"/>
            <p:cNvSpPr/>
            <p:nvPr/>
          </p:nvSpPr>
          <p:spPr>
            <a:xfrm>
              <a:off x="3054240" y="2887560"/>
              <a:ext cx="58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7"/>
          <p:cNvSpPr/>
          <p:nvPr/>
        </p:nvSpPr>
        <p:spPr>
          <a:xfrm>
            <a:off x="1674000" y="335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8"/>
          <p:cNvSpPr/>
          <p:nvPr/>
        </p:nvSpPr>
        <p:spPr>
          <a:xfrm>
            <a:off x="3419640" y="4795920"/>
            <a:ext cx="288720" cy="28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0"/>
              <p:cNvSpPr txBox="1"/>
              <p:nvPr/>
            </p:nvSpPr>
            <p:spPr>
              <a:xfrm>
                <a:off x="4368960" y="3903840"/>
                <a:ext cx="40068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31"/>
          <p:cNvSpPr/>
          <p:nvPr/>
        </p:nvSpPr>
        <p:spPr>
          <a:xfrm>
            <a:off x="4427640" y="465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йдем радиус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2"/>
              <p:cNvSpPr txBox="1"/>
              <p:nvPr/>
            </p:nvSpPr>
            <p:spPr>
              <a:xfrm>
                <a:off x="4476600" y="4941720"/>
                <a:ext cx="2568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Text Box 33"/>
          <p:cNvSpPr/>
          <p:nvPr/>
        </p:nvSpPr>
        <p:spPr>
          <a:xfrm>
            <a:off x="324000" y="58104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айдем площадь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34"/>
              <p:cNvSpPr txBox="1"/>
              <p:nvPr/>
            </p:nvSpPr>
            <p:spPr>
              <a:xfrm>
                <a:off x="4500720" y="5661000"/>
                <a:ext cx="381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Text Box 35"/>
          <p:cNvSpPr/>
          <p:nvPr/>
        </p:nvSpPr>
        <p:spPr>
          <a:xfrm>
            <a:off x="324000" y="62388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36"/>
              <p:cNvSpPr txBox="1"/>
              <p:nvPr/>
            </p:nvSpPr>
            <p:spPr>
              <a:xfrm>
                <a:off x="1403280" y="6165720"/>
                <a:ext cx="2303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5" name="Picture 4" descr="Безымянный"/>
          <p:cNvPicPr/>
          <p:nvPr/>
        </p:nvPicPr>
        <p:blipFill>
          <a:blip r:embed="rId1"/>
          <a:stretch/>
        </p:blipFill>
        <p:spPr>
          <a:xfrm>
            <a:off x="539640" y="1628640"/>
            <a:ext cx="3357720" cy="40784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2"/>
          <p:cNvSpPr/>
          <p:nvPr/>
        </p:nvSpPr>
        <p:spPr>
          <a:xfrm>
            <a:off x="142920" y="5716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 90-92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: составле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368000" y="6151320"/>
            <a:ext cx="30956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44604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флексивный эк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295280" y="1433520"/>
            <a:ext cx="3168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ей работой я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50920" y="10587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узнал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2104920" y="1844640"/>
            <a:ext cx="42674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не было трудн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928960" y="2214720"/>
            <a:ext cx="26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378240" y="2852640"/>
            <a:ext cx="288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перь я мог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000680" y="3429000"/>
            <a:ext cx="37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меня получилось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286160" y="4071960"/>
            <a:ext cx="235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 не смог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071960" y="4786200"/>
            <a:ext cx="26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попробую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916360" y="5416560"/>
            <a:ext cx="3095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ня удивило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138400" y="5799240"/>
            <a:ext cx="53611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ма в дальнейшем мн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4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4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кройте глаз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 правую руку себе на голову, погладьте и скажите: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Ах, какой я молодец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перь положите руку соседу на голову, погладьте и скажите: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Ах, какой ты молодец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Заголовок 1"/>
          <p:cNvSpPr/>
          <p:nvPr/>
        </p:nvSpPr>
        <p:spPr>
          <a:xfrm>
            <a:off x="46836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лак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7283520" y="3429000"/>
            <a:ext cx="985680" cy="985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324000" y="4862520"/>
            <a:ext cx="17269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411280" y="550800"/>
            <a:ext cx="67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йдите площадь поверхности шляпы, размеры которой (в см) указаны на рисун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0920" y="206064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Если дно шляпы опустить на плоскость её полей, то получим круг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124000" y="2637000"/>
            <a:ext cx="3456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= 20 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250920" y="3176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ощадь этого кр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Object 6"/>
          <p:cNvGraphicFramePr/>
          <p:nvPr/>
        </p:nvGraphicFramePr>
        <p:xfrm>
          <a:off x="324000" y="3573360"/>
          <a:ext cx="34099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73360"/>
                    <a:ext cx="3409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Text Box 7"/>
          <p:cNvSpPr/>
          <p:nvPr/>
        </p:nvSpPr>
        <p:spPr>
          <a:xfrm>
            <a:off x="179280" y="41115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Найдем площадь боковой поверхности цилиндрическ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8"/>
          <p:cNvGraphicFramePr/>
          <p:nvPr/>
        </p:nvGraphicFramePr>
        <p:xfrm>
          <a:off x="401760" y="4513320"/>
          <a:ext cx="6330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4513320"/>
                    <a:ext cx="6330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9"/>
          <p:cNvSpPr/>
          <p:nvPr/>
        </p:nvSpPr>
        <p:spPr>
          <a:xfrm>
            <a:off x="179280" y="5084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Найдем площадь шля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10"/>
          <p:cNvGraphicFramePr/>
          <p:nvPr/>
        </p:nvGraphicFramePr>
        <p:xfrm>
          <a:off x="358920" y="5516640"/>
          <a:ext cx="738180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920" y="5516640"/>
                    <a:ext cx="73818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11"/>
          <p:cNvSpPr/>
          <p:nvPr/>
        </p:nvSpPr>
        <p:spPr>
          <a:xfrm>
            <a:off x="468360" y="6165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160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3" descr="big_smiles_163"/>
          <p:cNvPicPr/>
          <p:nvPr/>
        </p:nvPicPr>
        <p:blipFill>
          <a:blip r:embed="rId7"/>
          <a:stretch/>
        </p:blipFill>
        <p:spPr>
          <a:xfrm>
            <a:off x="684360" y="620640"/>
            <a:ext cx="11523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14"/>
          <p:cNvGrpSpPr/>
          <p:nvPr/>
        </p:nvGrpSpPr>
        <p:grpSpPr>
          <a:xfrm>
            <a:off x="5292720" y="1700280"/>
            <a:ext cx="3240000" cy="2017800"/>
            <a:chOff x="5292720" y="1700280"/>
            <a:chExt cx="3240000" cy="2017800"/>
          </a:xfrm>
        </p:grpSpPr>
        <p:sp>
          <p:nvSpPr>
            <p:cNvPr id="482" name="Oval 15"/>
            <p:cNvSpPr/>
            <p:nvPr/>
          </p:nvSpPr>
          <p:spPr>
            <a:xfrm>
              <a:off x="5292720" y="1916280"/>
              <a:ext cx="3240000" cy="1801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Freeform 16"/>
            <p:cNvGrpSpPr/>
            <p:nvPr/>
          </p:nvGrpSpPr>
          <p:grpSpPr>
            <a:xfrm>
              <a:off x="6065640" y="2041560"/>
              <a:ext cx="1627200" cy="1268640"/>
              <a:chOff x="6065640" y="2041560"/>
              <a:chExt cx="1627200" cy="1268640"/>
            </a:xfrm>
          </p:grpSpPr>
          <p:pic>
            <p:nvPicPr>
              <p:cNvPr id="484" name="Freeform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6065640" y="2041560"/>
                <a:ext cx="1627200" cy="126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084720" y="2059920"/>
                <a:ext cx="1584000" cy="12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Oval 17"/>
            <p:cNvSpPr/>
            <p:nvPr/>
          </p:nvSpPr>
          <p:spPr>
            <a:xfrm>
              <a:off x="6084720" y="1700280"/>
              <a:ext cx="1582920" cy="863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Line 18"/>
          <p:cNvSpPr/>
          <p:nvPr/>
        </p:nvSpPr>
        <p:spPr>
          <a:xfrm flipH="1">
            <a:off x="6300360" y="2205000"/>
            <a:ext cx="64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6156360" y="191628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>
            <a:off x="5439960" y="2924280"/>
            <a:ext cx="64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558000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"/>
          <p:cNvSpPr/>
          <p:nvPr/>
        </p:nvSpPr>
        <p:spPr>
          <a:xfrm>
            <a:off x="7236000" y="249228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3"/>
          <p:cNvSpPr/>
          <p:nvPr/>
        </p:nvSpPr>
        <p:spPr>
          <a:xfrm>
            <a:off x="7236000" y="26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411280" y="162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Ы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etstwo2"/>
          <p:cNvPicPr/>
          <p:nvPr/>
        </p:nvPicPr>
        <p:blipFill>
          <a:blip r:embed="rId1"/>
          <a:stretch/>
        </p:blipFill>
        <p:spPr>
          <a:xfrm>
            <a:off x="4324320" y="2708280"/>
            <a:ext cx="3834000" cy="3294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826920" y="1700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ово цилиндр происходит от греческого слов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“килиндрос”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что означает “валик”, “каток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val 40"/>
          <p:cNvSpPr/>
          <p:nvPr/>
        </p:nvSpPr>
        <p:spPr>
          <a:xfrm>
            <a:off x="6300720" y="4148280"/>
            <a:ext cx="287280" cy="6490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9"/>
          <p:cNvSpPr/>
          <p:nvPr/>
        </p:nvSpPr>
        <p:spPr>
          <a:xfrm>
            <a:off x="5219640" y="2852640"/>
            <a:ext cx="216000" cy="6494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4"/>
          <p:cNvSpPr/>
          <p:nvPr/>
        </p:nvSpPr>
        <p:spPr>
          <a:xfrm>
            <a:off x="539640" y="4869000"/>
            <a:ext cx="3024360" cy="1152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79280" y="763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2340000" y="51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ощадь осевого сечения цилиндра равна 10 м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а площадь основания – 5 м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Найдите высоту цили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732720" y="1844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851280" y="23479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лощадь осн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27"/>
          <p:cNvGraphicFramePr/>
          <p:nvPr/>
        </p:nvGraphicFramePr>
        <p:xfrm>
          <a:off x="4324320" y="2924280"/>
          <a:ext cx="1333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2924280"/>
                    <a:ext cx="1333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ext Box 28"/>
          <p:cNvSpPr/>
          <p:nvPr/>
        </p:nvSpPr>
        <p:spPr>
          <a:xfrm>
            <a:off x="5764320" y="2995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29"/>
              <p:cNvSpPr txBox="1"/>
              <p:nvPr/>
            </p:nvSpPr>
            <p:spPr>
              <a:xfrm>
                <a:off x="6772320" y="2779560"/>
                <a:ext cx="168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Text Box 30"/>
          <p:cNvSpPr/>
          <p:nvPr/>
        </p:nvSpPr>
        <p:spPr>
          <a:xfrm>
            <a:off x="3780000" y="3753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лощадь сечения – прямоуголь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1"/>
              <p:cNvSpPr txBox="1"/>
              <p:nvPr/>
            </p:nvSpPr>
            <p:spPr>
              <a:xfrm>
                <a:off x="4282920" y="4292640"/>
                <a:ext cx="2881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Text Box 32"/>
          <p:cNvSpPr/>
          <p:nvPr/>
        </p:nvSpPr>
        <p:spPr>
          <a:xfrm>
            <a:off x="7162920" y="4327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3"/>
              <p:cNvSpPr txBox="1"/>
              <p:nvPr/>
            </p:nvSpPr>
            <p:spPr>
              <a:xfrm>
                <a:off x="4211640" y="4797360"/>
                <a:ext cx="424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Text Box 35"/>
          <p:cNvSpPr/>
          <p:nvPr/>
        </p:nvSpPr>
        <p:spPr>
          <a:xfrm>
            <a:off x="3778200" y="57531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6"/>
              <p:cNvSpPr txBox="1"/>
              <p:nvPr/>
            </p:nvSpPr>
            <p:spPr>
              <a:xfrm>
                <a:off x="4786200" y="5608800"/>
                <a:ext cx="865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38"/>
          <p:cNvGrpSpPr/>
          <p:nvPr/>
        </p:nvGrpSpPr>
        <p:grpSpPr>
          <a:xfrm>
            <a:off x="539640" y="1773360"/>
            <a:ext cx="3094200" cy="4430880"/>
            <a:chOff x="539640" y="1773360"/>
            <a:chExt cx="3094200" cy="4430880"/>
          </a:xfrm>
        </p:grpSpPr>
        <p:sp>
          <p:nvSpPr>
            <p:cNvPr id="512" name="Freeform 24"/>
            <p:cNvSpPr/>
            <p:nvPr/>
          </p:nvSpPr>
          <p:spPr>
            <a:xfrm>
              <a:off x="900000" y="2133720"/>
              <a:ext cx="2448000" cy="36716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3671640"/>
                <a:gd name="textAreaBottom" fmla="*/ 3672000 h 3671640"/>
              </a:gdLst>
              <a:ahLst/>
              <a:rect l="textAreaLeft" t="textAreaTop" r="textAreaRight" b="textAreaBottom"/>
              <a:pathLst>
                <a:path w="1542" h="2313">
                  <a:moveTo>
                    <a:pt x="0" y="2313"/>
                  </a:moveTo>
                  <a:lnTo>
                    <a:pt x="0" y="362"/>
                  </a:lnTo>
                  <a:lnTo>
                    <a:pt x="1542" y="0"/>
                  </a:lnTo>
                  <a:lnTo>
                    <a:pt x="1542" y="1905"/>
                  </a:lnTo>
                  <a:lnTo>
                    <a:pt x="0" y="23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900000" y="5157360"/>
              <a:ext cx="2448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68436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539640" y="2637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3203640" y="177336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3059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V="1">
              <a:off x="900000" y="2133720"/>
              <a:ext cx="244980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2"/>
            <p:cNvSpPr/>
            <p:nvPr/>
          </p:nvSpPr>
          <p:spPr>
            <a:xfrm>
              <a:off x="900000" y="2708280"/>
              <a:ext cx="0" cy="30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3348000" y="213372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37"/>
            <p:cNvSpPr/>
            <p:nvPr/>
          </p:nvSpPr>
          <p:spPr>
            <a:xfrm>
              <a:off x="1476360" y="5516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5" descr="Безымянный"/>
          <p:cNvPicPr/>
          <p:nvPr/>
        </p:nvPicPr>
        <p:blipFill>
          <a:blip r:embed="rId3"/>
          <a:stretch/>
        </p:blipFill>
        <p:spPr>
          <a:xfrm>
            <a:off x="395280" y="1557360"/>
            <a:ext cx="3357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000"/>
                            </p:stCondLst>
                            <p:childTnLst>
                              <p:par>
                                <p:cTn id="9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5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38"/>
          <p:cNvSpPr/>
          <p:nvPr/>
        </p:nvSpPr>
        <p:spPr>
          <a:xfrm>
            <a:off x="639720" y="2131920"/>
            <a:ext cx="719280" cy="3961080"/>
          </a:xfrm>
          <a:custGeom>
            <a:avLst/>
            <a:gdLst>
              <a:gd name="textAreaLeft" fmla="*/ 0 w 719280"/>
              <a:gd name="textAreaRight" fmla="*/ 719640 w 71928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w="453" h="2495">
                <a:moveTo>
                  <a:pt x="0" y="2495"/>
                </a:moveTo>
                <a:lnTo>
                  <a:pt x="0" y="590"/>
                </a:lnTo>
                <a:lnTo>
                  <a:pt x="453" y="0"/>
                </a:lnTo>
                <a:lnTo>
                  <a:pt x="453" y="1951"/>
                </a:lnTo>
                <a:lnTo>
                  <a:pt x="0" y="2495"/>
                </a:ln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8"/>
          <p:cNvSpPr/>
          <p:nvPr/>
        </p:nvSpPr>
        <p:spPr>
          <a:xfrm flipV="1">
            <a:off x="711360" y="5732280"/>
            <a:ext cx="1079280" cy="360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79280" y="822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2</a:t>
            </a:r>
            <a:r>
              <a:rPr b="0" lang="en-US" sz="3600" spc="-1" strike="noStrike">
                <a:solidFill>
                  <a:srgbClr val="333399"/>
                </a:solidFill>
                <a:latin typeface="comic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765440" y="533520"/>
            <a:ext cx="73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онцы отрезка АВ лежат на разных основаниях цилиндра. Радиус цилиндра равен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, его высота –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, расстояние между прямой АВ и осью цилиндра равно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 Найдите: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) высоту, если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= 10,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= 8, AB = 13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639720" y="2203560"/>
            <a:ext cx="647640" cy="38894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359000" y="220356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1287360" y="573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63972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1"/>
          <p:cNvSpPr/>
          <p:nvPr/>
        </p:nvSpPr>
        <p:spPr>
          <a:xfrm>
            <a:off x="6948360" y="1819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2"/>
          <p:cNvSpPr/>
          <p:nvPr/>
        </p:nvSpPr>
        <p:spPr>
          <a:xfrm>
            <a:off x="3708360" y="21319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остроим отрезок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3708360" y="2563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роведем радиус А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3708360" y="29955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строим отрезо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5"/>
          <p:cNvSpPr txBox="1"/>
          <p:nvPr/>
        </p:nvSpPr>
        <p:spPr>
          <a:xfrm>
            <a:off x="7093080" y="2841480"/>
            <a:ext cx="50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6" name="Line 37"/>
          <p:cNvSpPr/>
          <p:nvPr/>
        </p:nvSpPr>
        <p:spPr>
          <a:xfrm>
            <a:off x="639720" y="3068640"/>
            <a:ext cx="0" cy="302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9"/>
          <p:cNvSpPr/>
          <p:nvPr/>
        </p:nvSpPr>
        <p:spPr>
          <a:xfrm flipV="1">
            <a:off x="639720" y="2203200"/>
            <a:ext cx="64764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0"/>
          <p:cNvSpPr/>
          <p:nvPr/>
        </p:nvSpPr>
        <p:spPr>
          <a:xfrm flipV="1">
            <a:off x="639720" y="5229000"/>
            <a:ext cx="71928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Безымянный"/>
          <p:cNvPicPr/>
          <p:nvPr/>
        </p:nvPicPr>
        <p:blipFill>
          <a:blip r:embed="rId1"/>
          <a:stretch/>
        </p:blipFill>
        <p:spPr>
          <a:xfrm>
            <a:off x="135000" y="1844640"/>
            <a:ext cx="335736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21"/>
          <p:cNvGrpSpPr/>
          <p:nvPr/>
        </p:nvGrpSpPr>
        <p:grpSpPr>
          <a:xfrm>
            <a:off x="423720" y="6067440"/>
            <a:ext cx="360360" cy="531000"/>
            <a:chOff x="423720" y="6067440"/>
            <a:chExt cx="360360" cy="531000"/>
          </a:xfrm>
        </p:grpSpPr>
        <p:sp>
          <p:nvSpPr>
            <p:cNvPr id="541" name="Text Box 22"/>
            <p:cNvSpPr/>
            <p:nvPr/>
          </p:nvSpPr>
          <p:spPr>
            <a:xfrm>
              <a:off x="423720" y="613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3"/>
            <p:cNvSpPr/>
            <p:nvPr/>
          </p:nvSpPr>
          <p:spPr>
            <a:xfrm>
              <a:off x="639720" y="60674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4"/>
          <p:cNvGrpSpPr/>
          <p:nvPr/>
        </p:nvGrpSpPr>
        <p:grpSpPr>
          <a:xfrm>
            <a:off x="998640" y="1628640"/>
            <a:ext cx="431640" cy="576360"/>
            <a:chOff x="998640" y="1628640"/>
            <a:chExt cx="431640" cy="576360"/>
          </a:xfrm>
        </p:grpSpPr>
        <p:sp>
          <p:nvSpPr>
            <p:cNvPr id="544" name="Text Box 25"/>
            <p:cNvSpPr/>
            <p:nvPr/>
          </p:nvSpPr>
          <p:spPr>
            <a:xfrm>
              <a:off x="998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6"/>
            <p:cNvSpPr/>
            <p:nvPr/>
          </p:nvSpPr>
          <p:spPr>
            <a:xfrm>
              <a:off x="1214280" y="2062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Line 41"/>
          <p:cNvSpPr/>
          <p:nvPr/>
        </p:nvSpPr>
        <p:spPr>
          <a:xfrm flipH="1" flipV="1">
            <a:off x="1432080" y="5229000"/>
            <a:ext cx="358560" cy="4316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1576440" y="5130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3"/>
          <p:cNvSpPr/>
          <p:nvPr/>
        </p:nvSpPr>
        <p:spPr>
          <a:xfrm flipH="1" flipV="1">
            <a:off x="1071720" y="5587920"/>
            <a:ext cx="792000" cy="1447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4"/>
          <p:cNvSpPr/>
          <p:nvPr/>
        </p:nvSpPr>
        <p:spPr>
          <a:xfrm>
            <a:off x="128844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1170000" y="5465160"/>
            <a:ext cx="125640" cy="165600"/>
            <a:chOff x="1170000" y="5465160"/>
            <a:chExt cx="125640" cy="165600"/>
          </a:xfrm>
        </p:grpSpPr>
        <p:sp>
          <p:nvSpPr>
            <p:cNvPr id="551" name="Line 51"/>
            <p:cNvSpPr/>
            <p:nvPr/>
          </p:nvSpPr>
          <p:spPr>
            <a:xfrm flipV="1">
              <a:off x="1220760" y="5513400"/>
              <a:ext cx="67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2"/>
            <p:cNvSpPr/>
            <p:nvPr/>
          </p:nvSpPr>
          <p:spPr>
            <a:xfrm flipH="1" flipV="1">
              <a:off x="1170000" y="5465160"/>
              <a:ext cx="12564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54"/>
          <p:cNvSpPr/>
          <p:nvPr/>
        </p:nvSpPr>
        <p:spPr>
          <a:xfrm>
            <a:off x="782640" y="526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5"/>
          <p:cNvSpPr/>
          <p:nvPr/>
        </p:nvSpPr>
        <p:spPr>
          <a:xfrm>
            <a:off x="3708360" y="3421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трезок ОК – искомое рас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6"/>
          <p:cNvSpPr/>
          <p:nvPr/>
        </p:nvSpPr>
        <p:spPr>
          <a:xfrm>
            <a:off x="3708360" y="382428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Из прямоугольного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ОК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57"/>
          <p:cNvGraphicFramePr/>
          <p:nvPr/>
        </p:nvGraphicFramePr>
        <p:xfrm>
          <a:off x="3924360" y="4111560"/>
          <a:ext cx="451152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5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111560"/>
                    <a:ext cx="451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58"/>
          <p:cNvSpPr/>
          <p:nvPr/>
        </p:nvSpPr>
        <p:spPr>
          <a:xfrm>
            <a:off x="1287360" y="4832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3995640" y="4579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 АС =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0"/>
          <p:cNvSpPr/>
          <p:nvPr/>
        </p:nvSpPr>
        <p:spPr>
          <a:xfrm>
            <a:off x="3708360" y="490392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Из прямоугольного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61"/>
          <p:cNvGraphicFramePr/>
          <p:nvPr/>
        </p:nvGraphicFramePr>
        <p:xfrm>
          <a:off x="4011480" y="5221440"/>
          <a:ext cx="5097600" cy="53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1480" y="5221440"/>
                    <a:ext cx="50976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Text Box 62"/>
          <p:cNvSpPr/>
          <p:nvPr/>
        </p:nvSpPr>
        <p:spPr>
          <a:xfrm>
            <a:off x="3995640" y="573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3"/>
          <p:cNvSpPr/>
          <p:nvPr/>
        </p:nvSpPr>
        <p:spPr>
          <a:xfrm>
            <a:off x="3708360" y="627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4"/>
          <p:cNvSpPr/>
          <p:nvPr/>
        </p:nvSpPr>
        <p:spPr>
          <a:xfrm>
            <a:off x="615960" y="5587920"/>
            <a:ext cx="1231920" cy="52884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76" h="333">
                <a:moveTo>
                  <a:pt x="0" y="333"/>
                </a:moveTo>
                <a:lnTo>
                  <a:pt x="287" y="0"/>
                </a:lnTo>
                <a:lnTo>
                  <a:pt x="776" y="89"/>
                </a:lnTo>
                <a:lnTo>
                  <a:pt x="0" y="333"/>
                </a:lnTo>
                <a:close/>
              </a:path>
            </a:pathLst>
          </a:cu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65"/>
          <p:cNvSpPr/>
          <p:nvPr/>
        </p:nvSpPr>
        <p:spPr>
          <a:xfrm>
            <a:off x="639720" y="2154240"/>
            <a:ext cx="719280" cy="3938760"/>
          </a:xfrm>
          <a:custGeom>
            <a:avLst/>
            <a:gdLst>
              <a:gd name="textAreaLeft" fmla="*/ 0 w 719280"/>
              <a:gd name="textAreaRight" fmla="*/ 719640 w 719280"/>
              <a:gd name="textAreaTop" fmla="*/ 0 h 3938760"/>
              <a:gd name="textAreaBottom" fmla="*/ 3938760 h 3938760"/>
            </a:gdLst>
            <a:ahLst/>
            <a:rect l="textAreaLeft" t="textAreaTop" r="textAreaRight" b="textAreaBottom"/>
            <a:pathLst>
              <a:path w="453" h="2481">
                <a:moveTo>
                  <a:pt x="0" y="2481"/>
                </a:moveTo>
                <a:lnTo>
                  <a:pt x="417" y="16"/>
                </a:lnTo>
                <a:lnTo>
                  <a:pt x="449" y="0"/>
                </a:lnTo>
                <a:lnTo>
                  <a:pt x="453" y="1937"/>
                </a:lnTo>
                <a:lnTo>
                  <a:pt x="0" y="2481"/>
                </a:lnTo>
                <a:close/>
              </a:path>
            </a:pathLst>
          </a:custGeom>
          <a:solidFill>
            <a:srgbClr val="cc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96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97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001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2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5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006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7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4"/>
          <p:cNvSpPr/>
          <p:nvPr/>
        </p:nvSpPr>
        <p:spPr>
          <a:xfrm>
            <a:off x="900000" y="1844640"/>
            <a:ext cx="719280" cy="396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453" h="2495">
                <a:moveTo>
                  <a:pt x="0" y="2495"/>
                </a:moveTo>
                <a:lnTo>
                  <a:pt x="0" y="590"/>
                </a:lnTo>
                <a:lnTo>
                  <a:pt x="453" y="0"/>
                </a:lnTo>
                <a:lnTo>
                  <a:pt x="453" y="1951"/>
                </a:lnTo>
                <a:lnTo>
                  <a:pt x="0" y="2495"/>
                </a:ln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 flipV="1">
            <a:off x="971640" y="5444640"/>
            <a:ext cx="1079280" cy="360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 flipV="1">
            <a:off x="900000" y="1915920"/>
            <a:ext cx="647640" cy="38890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1619280" y="191628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547640" y="5445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90000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900000" y="278136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 flipV="1">
            <a:off x="900000" y="1915920"/>
            <a:ext cx="64764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 flipV="1">
            <a:off x="900000" y="4941360"/>
            <a:ext cx="71928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0"/>
          <p:cNvSpPr/>
          <p:nvPr/>
        </p:nvSpPr>
        <p:spPr>
          <a:xfrm flipH="1" flipV="1">
            <a:off x="1692360" y="4941720"/>
            <a:ext cx="358560" cy="43200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1836720" y="4843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2"/>
          <p:cNvSpPr/>
          <p:nvPr/>
        </p:nvSpPr>
        <p:spPr>
          <a:xfrm flipH="1" flipV="1">
            <a:off x="1332000" y="5300280"/>
            <a:ext cx="792000" cy="14436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154872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4"/>
          <p:cNvGrpSpPr/>
          <p:nvPr/>
        </p:nvGrpSpPr>
        <p:grpSpPr>
          <a:xfrm>
            <a:off x="1430640" y="5177880"/>
            <a:ext cx="125640" cy="165600"/>
            <a:chOff x="1430640" y="5177880"/>
            <a:chExt cx="125640" cy="165600"/>
          </a:xfrm>
        </p:grpSpPr>
        <p:sp>
          <p:nvSpPr>
            <p:cNvPr id="581" name="Line 25"/>
            <p:cNvSpPr/>
            <p:nvPr/>
          </p:nvSpPr>
          <p:spPr>
            <a:xfrm flipV="1">
              <a:off x="1481400" y="5226120"/>
              <a:ext cx="67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6"/>
            <p:cNvSpPr/>
            <p:nvPr/>
          </p:nvSpPr>
          <p:spPr>
            <a:xfrm flipH="1" flipV="1">
              <a:off x="1430640" y="5177880"/>
              <a:ext cx="12564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 Box 27"/>
          <p:cNvSpPr/>
          <p:nvPr/>
        </p:nvSpPr>
        <p:spPr>
          <a:xfrm>
            <a:off x="1042920" y="49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1547640" y="4545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324000" y="476280"/>
            <a:ext cx="83516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строим отрезо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(расстояние между скрещивающимися прямыми АВ и ОО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3780000" y="2133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Построим образующие, проходящие через концы отрезка АВ и плоскость, проходящую чере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3780000" y="32846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троим радиусы АО и С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5"/>
          <p:cNvSpPr/>
          <p:nvPr/>
        </p:nvSpPr>
        <p:spPr>
          <a:xfrm>
            <a:off x="3780000" y="3813120"/>
            <a:ext cx="48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ОС – равнобедренный, проведем высоту ОК, она и будет искомым расстоянием, т.к. прямая ОК перпендикулярна к двум пересекающимся прямым АС и ВС плоскости 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6">
            <a:hlinkClick r:id="rId1" action="ppaction://hlinksldjump"/>
          </p:cNvPr>
          <p:cNvSpPr/>
          <p:nvPr/>
        </p:nvSpPr>
        <p:spPr>
          <a:xfrm rot="10800000">
            <a:off x="7380360" y="6021000"/>
            <a:ext cx="1008000" cy="647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3" descr="Безымянный"/>
          <p:cNvPicPr/>
          <p:nvPr/>
        </p:nvPicPr>
        <p:blipFill>
          <a:blip r:embed="rId2"/>
          <a:stretch/>
        </p:blipFill>
        <p:spPr>
          <a:xfrm>
            <a:off x="395280" y="1557360"/>
            <a:ext cx="3357720" cy="460836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14"/>
          <p:cNvGrpSpPr/>
          <p:nvPr/>
        </p:nvGrpSpPr>
        <p:grpSpPr>
          <a:xfrm>
            <a:off x="684360" y="5780160"/>
            <a:ext cx="360360" cy="531000"/>
            <a:chOff x="684360" y="5780160"/>
            <a:chExt cx="360360" cy="531000"/>
          </a:xfrm>
        </p:grpSpPr>
        <p:sp>
          <p:nvSpPr>
            <p:cNvPr id="592" name="Text Box 15"/>
            <p:cNvSpPr/>
            <p:nvPr/>
          </p:nvSpPr>
          <p:spPr>
            <a:xfrm>
              <a:off x="684360" y="58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6"/>
            <p:cNvSpPr/>
            <p:nvPr/>
          </p:nvSpPr>
          <p:spPr>
            <a:xfrm>
              <a:off x="900360" y="5780160"/>
              <a:ext cx="14436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7"/>
          <p:cNvGrpSpPr/>
          <p:nvPr/>
        </p:nvGrpSpPr>
        <p:grpSpPr>
          <a:xfrm>
            <a:off x="1258920" y="1341360"/>
            <a:ext cx="431640" cy="576360"/>
            <a:chOff x="1258920" y="1341360"/>
            <a:chExt cx="431640" cy="576360"/>
          </a:xfrm>
        </p:grpSpPr>
        <p:sp>
          <p:nvSpPr>
            <p:cNvPr id="595" name="Text Box 18"/>
            <p:cNvSpPr/>
            <p:nvPr/>
          </p:nvSpPr>
          <p:spPr>
            <a:xfrm>
              <a:off x="1258920" y="1341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9"/>
            <p:cNvSpPr/>
            <p:nvPr/>
          </p:nvSpPr>
          <p:spPr>
            <a:xfrm>
              <a:off x="1474560" y="17748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13"/>
          <p:cNvSpPr/>
          <p:nvPr/>
        </p:nvSpPr>
        <p:spPr>
          <a:xfrm>
            <a:off x="673200" y="27766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612720" y="55864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2411280" y="56959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2916360" y="46512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2"/>
          <p:cNvGrpSpPr/>
          <p:nvPr/>
        </p:nvGrpSpPr>
        <p:grpSpPr>
          <a:xfrm>
            <a:off x="826920" y="2514600"/>
            <a:ext cx="2121120" cy="3170160"/>
            <a:chOff x="826920" y="2514600"/>
            <a:chExt cx="2121120" cy="3170160"/>
          </a:xfrm>
        </p:grpSpPr>
        <p:sp>
          <p:nvSpPr>
            <p:cNvPr id="602" name="Freeform 11"/>
            <p:cNvSpPr/>
            <p:nvPr/>
          </p:nvSpPr>
          <p:spPr>
            <a:xfrm>
              <a:off x="826920" y="2514600"/>
              <a:ext cx="2121120" cy="3132000"/>
            </a:xfrm>
            <a:custGeom>
              <a:avLst/>
              <a:gdLst>
                <a:gd name="textAreaLeft" fmla="*/ 0 w 2121120"/>
                <a:gd name="textAreaRight" fmla="*/ 2121120 w 2121120"/>
                <a:gd name="textAreaTop" fmla="*/ 0 h 3132000"/>
                <a:gd name="textAreaBottom" fmla="*/ 3132360 h 3132000"/>
              </a:gdLst>
              <a:ahLst/>
              <a:rect l="textAreaLeft" t="textAreaTop" r="textAreaRight" b="textAreaBottom"/>
              <a:pathLst>
                <a:path w="1336" h="1973">
                  <a:moveTo>
                    <a:pt x="0" y="1973"/>
                  </a:moveTo>
                  <a:lnTo>
                    <a:pt x="0" y="437"/>
                  </a:lnTo>
                  <a:lnTo>
                    <a:pt x="18" y="423"/>
                  </a:lnTo>
                  <a:lnTo>
                    <a:pt x="1336" y="0"/>
                  </a:lnTo>
                  <a:lnTo>
                    <a:pt x="1311" y="1600"/>
                  </a:lnTo>
                  <a:lnTo>
                    <a:pt x="0" y="197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 flipV="1">
              <a:off x="826920" y="5048280"/>
              <a:ext cx="2089440" cy="59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7"/>
            <p:cNvSpPr/>
            <p:nvPr/>
          </p:nvSpPr>
          <p:spPr>
            <a:xfrm flipV="1">
              <a:off x="826920" y="2526840"/>
              <a:ext cx="208944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8"/>
            <p:cNvSpPr/>
            <p:nvPr/>
          </p:nvSpPr>
          <p:spPr>
            <a:xfrm>
              <a:off x="826920" y="3174840"/>
              <a:ext cx="0" cy="250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2916360" y="2527200"/>
              <a:ext cx="0" cy="245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5"/>
          <p:cNvSpPr/>
          <p:nvPr/>
        </p:nvSpPr>
        <p:spPr>
          <a:xfrm>
            <a:off x="179280" y="822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</a:t>
            </a:r>
            <a:r>
              <a:rPr b="0" lang="en-US" sz="3600" spc="-1" strike="noStrike">
                <a:solidFill>
                  <a:srgbClr val="333399"/>
                </a:solidFill>
                <a:latin typeface="comic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619280" y="549360"/>
            <a:ext cx="7416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рез образующую АА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цилиндра проведены две секущие плоскости, одна из которых проходит через ось цилиндра. Найдите отношение площадей сечений цилиндра этими плоскостями, если угол между ними равен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2833560" y="216684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9"/>
          <p:cNvGrpSpPr/>
          <p:nvPr/>
        </p:nvGrpSpPr>
        <p:grpSpPr>
          <a:xfrm>
            <a:off x="826920" y="3174840"/>
            <a:ext cx="1729080" cy="2592720"/>
            <a:chOff x="826920" y="3174840"/>
            <a:chExt cx="1729080" cy="2592720"/>
          </a:xfrm>
        </p:grpSpPr>
        <p:sp>
          <p:nvSpPr>
            <p:cNvPr id="611" name="Freeform 27"/>
            <p:cNvSpPr/>
            <p:nvPr/>
          </p:nvSpPr>
          <p:spPr>
            <a:xfrm>
              <a:off x="826920" y="3174840"/>
              <a:ext cx="1729080" cy="2592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2592720"/>
                <a:gd name="textAreaBottom" fmla="*/ 2593080 h 2592720"/>
              </a:gdLst>
              <a:ahLst/>
              <a:rect l="textAreaLeft" t="textAreaTop" r="textAreaRight" b="textAreaBottom"/>
              <a:pathLst>
                <a:path w="1089" h="1633">
                  <a:moveTo>
                    <a:pt x="0" y="0"/>
                  </a:moveTo>
                  <a:lnTo>
                    <a:pt x="1089" y="46"/>
                  </a:lnTo>
                  <a:lnTo>
                    <a:pt x="1089" y="1633"/>
                  </a:lnTo>
                  <a:lnTo>
                    <a:pt x="0" y="1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28"/>
            <p:cNvGrpSpPr/>
            <p:nvPr/>
          </p:nvGrpSpPr>
          <p:grpSpPr>
            <a:xfrm>
              <a:off x="826920" y="3174840"/>
              <a:ext cx="1729080" cy="2592720"/>
              <a:chOff x="826920" y="3174840"/>
              <a:chExt cx="1729080" cy="2592720"/>
            </a:xfrm>
          </p:grpSpPr>
          <p:sp>
            <p:nvSpPr>
              <p:cNvPr id="613" name="Line 23"/>
              <p:cNvSpPr/>
              <p:nvPr/>
            </p:nvSpPr>
            <p:spPr>
              <a:xfrm>
                <a:off x="826920" y="3174840"/>
                <a:ext cx="1729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4"/>
              <p:cNvSpPr/>
              <p:nvPr/>
            </p:nvSpPr>
            <p:spPr>
              <a:xfrm>
                <a:off x="826920" y="5624640"/>
                <a:ext cx="17290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25"/>
              <p:cNvSpPr/>
              <p:nvPr/>
            </p:nvSpPr>
            <p:spPr>
              <a:xfrm>
                <a:off x="2556000" y="3247920"/>
                <a:ext cx="0" cy="251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26"/>
          <p:cNvSpPr/>
          <p:nvPr/>
        </p:nvSpPr>
        <p:spPr>
          <a:xfrm>
            <a:off x="2484360" y="317484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9" descr="Безымянный"/>
          <p:cNvPicPr/>
          <p:nvPr/>
        </p:nvPicPr>
        <p:blipFill>
          <a:blip r:embed="rId1"/>
          <a:stretch/>
        </p:blipFill>
        <p:spPr>
          <a:xfrm>
            <a:off x="179280" y="2166840"/>
            <a:ext cx="3519720" cy="374508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43"/>
          <p:cNvGrpSpPr/>
          <p:nvPr/>
        </p:nvGrpSpPr>
        <p:grpSpPr>
          <a:xfrm>
            <a:off x="2556000" y="2527200"/>
            <a:ext cx="360360" cy="3241440"/>
            <a:chOff x="2556000" y="2527200"/>
            <a:chExt cx="360360" cy="3241440"/>
          </a:xfrm>
        </p:grpSpPr>
        <p:sp>
          <p:nvSpPr>
            <p:cNvPr id="619" name="Line 30"/>
            <p:cNvSpPr/>
            <p:nvPr/>
          </p:nvSpPr>
          <p:spPr>
            <a:xfrm flipV="1">
              <a:off x="2556000" y="2527200"/>
              <a:ext cx="360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1"/>
            <p:cNvSpPr/>
            <p:nvPr/>
          </p:nvSpPr>
          <p:spPr>
            <a:xfrm flipV="1">
              <a:off x="2556000" y="4974840"/>
              <a:ext cx="360360" cy="793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35"/>
          <p:cNvGrpSpPr/>
          <p:nvPr/>
        </p:nvGrpSpPr>
        <p:grpSpPr>
          <a:xfrm>
            <a:off x="1232640" y="2851200"/>
            <a:ext cx="602640" cy="398880"/>
            <a:chOff x="1232640" y="2851200"/>
            <a:chExt cx="602640" cy="398880"/>
          </a:xfrm>
        </p:grpSpPr>
        <p:sp>
          <p:nvSpPr>
            <p:cNvPr id="622" name="Arc 33"/>
            <p:cNvSpPr/>
            <p:nvPr/>
          </p:nvSpPr>
          <p:spPr>
            <a:xfrm rot="1107600">
              <a:off x="1260000" y="2958480"/>
              <a:ext cx="287280" cy="220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fill="none" w="21600" h="16564">
                  <a:moveTo>
                    <a:pt x="13863" y="0"/>
                  </a:moveTo>
                  <a:cubicBezTo>
                    <a:pt x="18767" y="4104"/>
                    <a:pt x="21600" y="10169"/>
                    <a:pt x="21600" y="16564"/>
                  </a:cubicBezTo>
                </a:path>
                <a:path stroke="0" w="21600" h="16564">
                  <a:moveTo>
                    <a:pt x="13863" y="0"/>
                  </a:moveTo>
                  <a:cubicBezTo>
                    <a:pt x="18767" y="4104"/>
                    <a:pt x="21600" y="10169"/>
                    <a:pt x="21600" y="16564"/>
                  </a:cubicBezTo>
                  <a:lnTo>
                    <a:pt x="0" y="1656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4"/>
            <p:cNvSpPr/>
            <p:nvPr/>
          </p:nvSpPr>
          <p:spPr>
            <a:xfrm>
              <a:off x="1476360" y="28512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38"/>
          <p:cNvGrpSpPr/>
          <p:nvPr/>
        </p:nvGrpSpPr>
        <p:grpSpPr>
          <a:xfrm>
            <a:off x="2335320" y="3049560"/>
            <a:ext cx="296280" cy="194760"/>
            <a:chOff x="2335320" y="3049560"/>
            <a:chExt cx="296280" cy="194760"/>
          </a:xfrm>
        </p:grpSpPr>
        <p:sp>
          <p:nvSpPr>
            <p:cNvPr id="625" name="Line 36"/>
            <p:cNvSpPr/>
            <p:nvPr/>
          </p:nvSpPr>
          <p:spPr>
            <a:xfrm flipV="1">
              <a:off x="2335320" y="3069360"/>
              <a:ext cx="806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7"/>
            <p:cNvSpPr/>
            <p:nvPr/>
          </p:nvSpPr>
          <p:spPr>
            <a:xfrm>
              <a:off x="2406960" y="3049560"/>
              <a:ext cx="2246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Line 39"/>
          <p:cNvSpPr/>
          <p:nvPr/>
        </p:nvSpPr>
        <p:spPr>
          <a:xfrm flipV="1">
            <a:off x="826920" y="317448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6661080" y="184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3708360" y="2311560"/>
            <a:ext cx="5041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делаем чертеж, построим плоскости А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 А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3708360" y="4203720"/>
            <a:ext cx="439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остроим плоскость В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4"/>
          <p:cNvSpPr/>
          <p:nvPr/>
        </p:nvSpPr>
        <p:spPr>
          <a:xfrm>
            <a:off x="3708360" y="467208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Заметим, что АВ диаметр основания цилиндра, значи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В=9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5"/>
          <p:cNvSpPr/>
          <p:nvPr/>
        </p:nvSpPr>
        <p:spPr>
          <a:xfrm>
            <a:off x="3708360" y="306864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Составим отношение площадей  се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46"/>
              <p:cNvSpPr txBox="1"/>
              <p:nvPr/>
            </p:nvSpPr>
            <p:spPr>
              <a:xfrm>
                <a:off x="4970520" y="3357720"/>
                <a:ext cx="2876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47"/>
              <p:cNvSpPr txBox="1"/>
              <p:nvPr/>
            </p:nvSpPr>
            <p:spPr>
              <a:xfrm>
                <a:off x="3825720" y="5373720"/>
                <a:ext cx="20685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48"/>
          <p:cNvSpPr/>
          <p:nvPr/>
        </p:nvSpPr>
        <p:spPr>
          <a:xfrm>
            <a:off x="3706920" y="5769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И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9"/>
              <p:cNvSpPr txBox="1"/>
              <p:nvPr/>
            </p:nvSpPr>
            <p:spPr>
              <a:xfrm>
                <a:off x="4843440" y="5657760"/>
                <a:ext cx="3905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7" name="Group 52"/>
          <p:cNvGrpSpPr/>
          <p:nvPr/>
        </p:nvGrpSpPr>
        <p:grpSpPr>
          <a:xfrm>
            <a:off x="179280" y="6021360"/>
            <a:ext cx="2376720" cy="792360"/>
            <a:chOff x="179280" y="6021360"/>
            <a:chExt cx="2376720" cy="792360"/>
          </a:xfrm>
        </p:grpSpPr>
        <p:sp>
          <p:nvSpPr>
            <p:cNvPr id="638" name="Text Box 50"/>
            <p:cNvSpPr/>
            <p:nvPr/>
          </p:nvSpPr>
          <p:spPr>
            <a:xfrm>
              <a:off x="179280" y="6237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вет:              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51"/>
                <p:cNvSpPr txBox="1"/>
                <p:nvPr/>
              </p:nvSpPr>
              <p:spPr>
                <a:xfrm>
                  <a:off x="1258920" y="6021360"/>
                  <a:ext cx="86508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ϕ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664000" cy="33130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539640" y="1341360"/>
            <a:ext cx="532944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лоскость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параллельная оси цилиндра, отсекает от окружности основания дугу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с градусной мерой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 Радиус цилиндра равен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высота равна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расстояние между осью цилиндра ОО</a:t>
            </a:r>
            <a:r>
              <a:rPr b="1" lang="ru-RU" sz="22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и плоскостью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равно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539640" y="3951360"/>
            <a:ext cx="39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Докажите, что сечение цилиндра плоскостью 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есть прямоуголь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5005440" y="51879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Найдит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,  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12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5005440" y="396252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ставьте план вычисления площади сечения по данным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, 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539640" y="515772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Найдит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6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0"/>
          <p:cNvSpPr txBox="1"/>
          <p:nvPr/>
        </p:nvSpPr>
        <p:spPr>
          <a:xfrm>
            <a:off x="561960" y="765000"/>
            <a:ext cx="516240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амостоятель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4643280" y="4076640"/>
            <a:ext cx="0" cy="23767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466560" y="61405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1619280" y="614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14"/>
              <p:cNvSpPr txBox="1"/>
              <p:nvPr/>
            </p:nvSpPr>
            <p:spPr>
              <a:xfrm>
                <a:off x="6219720" y="6067440"/>
                <a:ext cx="657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1" name="Text Box 15"/>
          <p:cNvSpPr/>
          <p:nvPr/>
        </p:nvSpPr>
        <p:spPr>
          <a:xfrm>
            <a:off x="5003640" y="61405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иведите сво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971640" y="549360"/>
            <a:ext cx="7129440" cy="5911920"/>
            <a:chOff x="971640" y="549360"/>
            <a:chExt cx="7129440" cy="591192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190880"/>
              <a:ext cx="712800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971640" y="549360"/>
              <a:ext cx="7129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Arial"/>
                </a:rPr>
                <a:t>Цилиндрическая гастроном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3459240"/>
            <a:ext cx="4951440" cy="320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2556000" y="692280"/>
            <a:ext cx="186840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7"/>
          <p:cNvPicPr/>
          <p:nvPr/>
        </p:nvPicPr>
        <p:blipFill>
          <a:blip r:embed="rId4"/>
          <a:stretch/>
        </p:blipFill>
        <p:spPr>
          <a:xfrm>
            <a:off x="6726240" y="3645000"/>
            <a:ext cx="2454120" cy="275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7"/>
          <p:cNvPicPr/>
          <p:nvPr/>
        </p:nvPicPr>
        <p:blipFill>
          <a:blip r:embed="rId5"/>
          <a:stretch/>
        </p:blipFill>
        <p:spPr>
          <a:xfrm>
            <a:off x="5292720" y="3887640"/>
            <a:ext cx="2646360" cy="297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232000" cy="352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7"/>
          <p:cNvPicPr/>
          <p:nvPr/>
        </p:nvPicPr>
        <p:blipFill>
          <a:blip r:embed="rId7"/>
          <a:stretch/>
        </p:blipFill>
        <p:spPr>
          <a:xfrm>
            <a:off x="5292720" y="3887640"/>
            <a:ext cx="2646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317960" y="428760"/>
            <a:ext cx="70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Цилиндрическая  архите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Фотография в фотоальбоме Чем славится Оренбург сообщества Оренбургская обл (фото 27702)"/>
          <p:cNvPicPr/>
          <p:nvPr/>
        </p:nvPicPr>
        <p:blipFill>
          <a:blip r:embed="rId1"/>
          <a:stretch/>
        </p:blipFill>
        <p:spPr>
          <a:xfrm>
            <a:off x="1042920" y="1341360"/>
            <a:ext cx="75376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alorizator.ru - Форум про здоровье. Дневники питания, счетчик калорий. * Просмотр изображения - оренбург"/>
          <p:cNvPicPr/>
          <p:nvPr/>
        </p:nvPicPr>
        <p:blipFill>
          <a:blip r:embed="rId1"/>
          <a:stretch/>
        </p:blipFill>
        <p:spPr>
          <a:xfrm>
            <a:off x="1116000" y="692280"/>
            <a:ext cx="701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7:13:55Z</dcterms:created>
  <dc:creator>1</dc:creator>
  <dc:description/>
  <dc:language>en-US</dc:language>
  <cp:lastModifiedBy>l</cp:lastModifiedBy>
  <dcterms:modified xsi:type="dcterms:W3CDTF">2015-03-10T16:22:29Z</dcterms:modified>
  <cp:revision>150</cp:revision>
  <dc:subject/>
  <dc:title>Слайд 1</dc:title>
</cp:coreProperties>
</file>